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6182-E8BB-4FAB-AC82-3068C27DD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5C27-7B63-4045-9FC7-6FABE34A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AB2D-FFEC-42C6-94B6-129D071B3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DB79-BFD1-41E6-BAA8-148FFC190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C6D9-B20A-4BB5-B214-218380DAB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9BF2E-101F-4644-8A68-7F7AFAF0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B8CD-E5C3-4D7D-B7D3-D7184CC1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7280-10E6-480A-8360-82B3905D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DB7AB-9924-4FE8-AE4F-4890BBE7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639D-FC4E-4425-9778-5718C3EAE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42C3-BBD3-4095-A5DF-37C9190D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DAD4-8A9A-4B58-9446-AE2F93AB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9D984-2C8E-40E9-8E09-218750E2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4C93-1413-48D3-BAB4-36D53506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1FE6-5DCF-4DBC-8C55-214BC234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A9745-A8CE-41A2-8174-0279F0BFF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119E-0DFA-4D79-900D-47C10EE49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DE2C0B-A332-4765-B831-CDA314EF6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33A91E-160B-40A0-9C4F-F17B7F83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4BA446-AEDC-42AE-8F35-88B12600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02E3DD-A6CB-46EC-BBFF-95E3AAC7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FD315A-6CFD-4326-A0FA-A9EC80F0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8FA7-E747-46E0-9356-15BB9954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060220-520B-4914-906D-52194828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F6C8B1-50C9-45FB-B811-31D745D1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2F4DEE-0969-4C86-B28B-3AC70921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C3E5E9-D64C-4136-A823-3B22E494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1371EA-095B-4EF6-B9A4-4DE35CBC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D81503-CF55-4946-B99B-8BA173FB8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6B8F51-E093-48C8-90E1-7402932B4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CCE1D-C90F-4902-8AA5-556B2BF6C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FA82B-088C-41C7-9D2A-0CB7955D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74385-5D48-4E57-ADC0-52BC0B8A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A0BD-DABC-480E-A017-D2EA0F92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32D0D-5AE8-4FBB-9B8A-0D4DDC8E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F7991-AA46-4DAE-BADE-B4DDFBD4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502D4-09CB-4EEC-AF67-4C0C08DE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71AFB-4F5D-43D5-9772-2876CE45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9D88A-69C5-4EB5-BB6B-00A275FD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B97F2-6617-4886-89F0-779B38B4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B4342-D64D-4A28-ABBA-4A0AE4E6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B4717-377F-4A6A-8CE8-4480042B5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42355-0071-48ED-9B79-4010FF698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4219F2-CBAA-4DCF-8B70-915041B8F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8420-9249-4288-A46F-916DAF87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6E647D-7B84-4F25-BD9D-F9DC470C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05D1E7-27CA-49DE-99ED-616AF29D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F75F44-479A-4C87-A844-A576AF5E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511A7C-430F-40A2-9B75-0629CB84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1A5822-4D5F-405D-8A90-8C639F8C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EFB51E-6EE7-4628-A8A0-AEAE11AB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7D3EA9-18C7-4C13-9854-07E7CEDE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E98D9E-A1CB-4088-AF77-DA89876E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8E41B6-C504-4E74-BDF1-94A37B07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437A20-B68C-4961-B0FA-52FDA86FF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55AE-3A44-40A4-8B59-FF56E7D3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76386B-D6F1-4A30-9DC2-4331952D1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CFF502-BD94-4F68-9B9F-D50FAE353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F054EC-3B06-408C-8309-429ADCF2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F7ED5C-416F-40FE-A61E-99CCE577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F2CB6E-3882-487B-921C-6EF84F4F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F5E9E3-89ED-4C12-8B0C-4BAADA08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BA98E2-6D15-4F1A-AC09-7E703D25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18269C-F5B1-4E5F-B1DF-63F85D0C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6385C2-26EC-4164-AF33-712DDDAA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3FDDD7-CF8C-4DFB-A60D-3FC2F533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D856-A9D7-4439-9018-6A34847A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9720A6-412A-4A7B-9B6C-9EEF7B12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EC7A1A-AD1E-4BFA-BFAD-4514A60E1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03F6B3-9376-4EF1-8A32-255BCCC7C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D84D81-F632-4C3A-9755-42AEDFAC6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EA8271-C7C7-4D6C-A8DA-0ABAA9CB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EDA243-949E-4211-8121-1E843565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222E7E-9F57-447A-A34D-C9AE7E03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738E23-45BA-46B9-AAD7-B83DB100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09746C-FC78-4A5D-AA7D-1FEC8E77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962F0B-6520-4CA4-BABF-EE225B58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779F-1A24-4CD2-B285-F7CD60A0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1C7B2F-862A-4AE7-B805-3AD353A2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978E88-AB76-47E2-8ADB-CDA7FEFB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D73D1F-AFF8-4EA3-849B-54FBE7CD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D9CB57-F612-4C04-AC3C-E2E648009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683EC5-FAB2-4256-BC4F-F0146B647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6C99-A18B-4609-B840-ABD0638D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3b3c4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182520">
              <a:spcBef>
                <a:spcPts val="601"/>
              </a:spcBef>
              <a:buClr>
                <a:srgbClr val="48497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182520">
              <a:spcBef>
                <a:spcPts val="601"/>
              </a:spcBef>
              <a:buClr>
                <a:srgbClr val="b3b3c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182520">
              <a:spcBef>
                <a:spcPts val="601"/>
              </a:spcBef>
              <a:buClr>
                <a:srgbClr val="b0c0c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2445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3b3c4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19B7-CD9C-4B0F-84FD-8818E392E8B4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tangolo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3b3c4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ttangolo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1d1d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ttangolo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1d1d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ttangolo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9ed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Connettore 1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3b3c4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Connettore 1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9ed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Connettore 1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Connettore 1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3b3c4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Connettore 1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Connettore 1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ttangolo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3b3c4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Ovale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Ovale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Ovale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Ovale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Ovale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182520">
              <a:spcBef>
                <a:spcPts val="601"/>
              </a:spcBef>
              <a:buClr>
                <a:srgbClr val="48497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182520">
              <a:spcBef>
                <a:spcPts val="601"/>
              </a:spcBef>
              <a:buClr>
                <a:srgbClr val="b3b3c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182520">
              <a:spcBef>
                <a:spcPts val="601"/>
              </a:spcBef>
              <a:buClr>
                <a:srgbClr val="b0c0c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2445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114F-4167-4CCB-9A0F-20A9856E521A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3b3c4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3b3c4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182520">
              <a:spcBef>
                <a:spcPts val="601"/>
              </a:spcBef>
              <a:buClr>
                <a:srgbClr val="48497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182520">
              <a:spcBef>
                <a:spcPts val="601"/>
              </a:spcBef>
              <a:buClr>
                <a:srgbClr val="b3b3c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182520">
              <a:spcBef>
                <a:spcPts val="601"/>
              </a:spcBef>
              <a:buClr>
                <a:srgbClr val="b0c0c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2445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26C7-F1BD-4360-882C-8BE5342D5A3B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ttangolo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3b3c4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ttangolo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1d1d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ttangolo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1d1d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ttangolo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9ed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Connettore 1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3b3c4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Connettore 1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9ed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Connettore 1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Connettore 1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3b3c4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Connettore 1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ttangolo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3b3c4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Oval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Ovale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Oval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Ovale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Ovale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Connettore 1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edede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dedede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39720" indent="-27288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182520">
              <a:spcBef>
                <a:spcPts val="601"/>
              </a:spcBef>
              <a:buClr>
                <a:srgbClr val="48497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187280" indent="-182520">
              <a:spcBef>
                <a:spcPts val="601"/>
              </a:spcBef>
              <a:buClr>
                <a:srgbClr val="b3b3c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1461960" indent="-182520">
              <a:spcBef>
                <a:spcPts val="601"/>
              </a:spcBef>
              <a:buClr>
                <a:srgbClr val="b0c0c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eded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eded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3DBC-3916-426F-AFD2-096C3181C512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3b3c4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3b3c4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182520">
              <a:spcBef>
                <a:spcPts val="601"/>
              </a:spcBef>
              <a:buClr>
                <a:srgbClr val="48497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182520">
              <a:spcBef>
                <a:spcPts val="601"/>
              </a:spcBef>
              <a:buClr>
                <a:srgbClr val="b3b3c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182520">
              <a:spcBef>
                <a:spcPts val="601"/>
              </a:spcBef>
              <a:buClr>
                <a:srgbClr val="b0c0c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2445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39EB-25D5-425A-8B8D-BB3863A7CBFE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nettore 1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3b3c4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Connettore 1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Connettore 1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Connettore 1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ttangolo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3b3c4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Connettore 1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Ovale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182520">
              <a:spcBef>
                <a:spcPts val="601"/>
              </a:spcBef>
              <a:buClr>
                <a:srgbClr val="48497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182520">
              <a:spcBef>
                <a:spcPts val="601"/>
              </a:spcBef>
              <a:buClr>
                <a:srgbClr val="b3b3c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182520">
              <a:spcBef>
                <a:spcPts val="601"/>
              </a:spcBef>
              <a:buClr>
                <a:srgbClr val="b0c0c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2445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EB21-8B92-4D5A-BC05-5A6741C8794F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nettore 1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Ovale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Connettore 1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ttangolo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3b3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Connettore 1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Connettore 1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Connettore 1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182520">
              <a:spcBef>
                <a:spcPts val="601"/>
              </a:spcBef>
              <a:buClr>
                <a:srgbClr val="48497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182520">
              <a:spcBef>
                <a:spcPts val="601"/>
              </a:spcBef>
              <a:buClr>
                <a:srgbClr val="b3b3c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182520">
              <a:spcBef>
                <a:spcPts val="601"/>
              </a:spcBef>
              <a:buClr>
                <a:srgbClr val="b0c0c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42445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2445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EEC9-03D4-40CD-90B4-0191F8480E39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tats.trovaprezzi.it/tp/go.aspx?id=3429411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stats.trovaprezzi.it/tp/go.aspx?id=6999335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3285720" y="1571400"/>
            <a:ext cx="54291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24456"/>
                </a:solidFill>
                <a:latin typeface="Verdana"/>
              </a:rPr>
              <a:t>DISPENSER PER SAPONE DA PIAN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CasellaDiTesto 5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iversità di Camerino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| Facoltà di Architettura | d.i.s.i.a.   (a.a. 2007-2008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isegno industriale contemporane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ocente: G.Garroni    collaboratore: V.Tamburri    tutor: A. Cameli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Immagine 6" descr="unicam copia.png"/>
          <p:cNvPicPr/>
          <p:nvPr/>
        </p:nvPicPr>
        <p:blipFill>
          <a:blip r:embed="rId1"/>
          <a:stretch/>
        </p:blipFill>
        <p:spPr>
          <a:xfrm>
            <a:off x="7929720" y="428760"/>
            <a:ext cx="982440" cy="1212840"/>
          </a:xfrm>
          <a:prstGeom prst="rect">
            <a:avLst/>
          </a:prstGeom>
          <a:ln w="0">
            <a:noFill/>
          </a:ln>
        </p:spPr>
      </p:pic>
      <p:sp>
        <p:nvSpPr>
          <p:cNvPr id="354" name="Sottotitolo 2"/>
          <p:cNvSpPr/>
          <p:nvPr/>
        </p:nvSpPr>
        <p:spPr>
          <a:xfrm rot="16200000">
            <a:off x="6357960" y="4143240"/>
            <a:ext cx="42861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424456"/>
                </a:solidFill>
                <a:latin typeface="Verdana"/>
              </a:rPr>
              <a:t>SAPONETT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5" name="Immagine 8" descr="Soap_Dispenser.jpg"/>
          <p:cNvPicPr/>
          <p:nvPr/>
        </p:nvPicPr>
        <p:blipFill>
          <a:blip r:embed="rId2"/>
          <a:stretch/>
        </p:blipFill>
        <p:spPr>
          <a:xfrm>
            <a:off x="928800" y="1500120"/>
            <a:ext cx="3857400" cy="3857760"/>
          </a:xfrm>
          <a:prstGeom prst="rect">
            <a:avLst/>
          </a:prstGeom>
          <a:ln w="0">
            <a:noFill/>
          </a:ln>
        </p:spPr>
      </p:pic>
      <p:pic>
        <p:nvPicPr>
          <p:cNvPr id="356" name="Immagine 10" descr="F:\università secondo anno\Garroni\saponetta\saponetta (5).jpg"/>
          <p:cNvPicPr/>
          <p:nvPr/>
        </p:nvPicPr>
        <p:blipFill>
          <a:blip r:embed="rId3"/>
          <a:stretch/>
        </p:blipFill>
        <p:spPr>
          <a:xfrm>
            <a:off x="4857840" y="3929040"/>
            <a:ext cx="3476520" cy="2419200"/>
          </a:xfrm>
          <a:prstGeom prst="rect">
            <a:avLst/>
          </a:prstGeom>
          <a:ln w="0">
            <a:noFill/>
          </a:ln>
        </p:spPr>
      </p:pic>
      <p:sp>
        <p:nvSpPr>
          <p:cNvPr id="357" name="CasellaDiTesto 9"/>
          <p:cNvSpPr/>
          <p:nvPr/>
        </p:nvSpPr>
        <p:spPr>
          <a:xfrm>
            <a:off x="2143080" y="5648400"/>
            <a:ext cx="235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Bedini Pao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Malpiedi Abe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ilvestrini Stefan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6000" y="285480"/>
            <a:ext cx="25430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Verdana"/>
              </a:rPr>
              <a:t>SAPONETTA</a:t>
            </a: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59" name="CasellaDiTesto 2"/>
          <p:cNvSpPr/>
          <p:nvPr/>
        </p:nvSpPr>
        <p:spPr>
          <a:xfrm>
            <a:off x="357120" y="100008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TORIA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CasellaDiTesto 3"/>
          <p:cNvSpPr/>
          <p:nvPr/>
        </p:nvSpPr>
        <p:spPr>
          <a:xfrm>
            <a:off x="428760" y="1428840"/>
            <a:ext cx="51433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Le prime prove dell'utilizzo del sapone risalgono alla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civiltà babilonese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. Cilindri di terracotta che contenevano residui di sostanze simili al sapone e risalenti al 2800 a.C. sono stati ritrovati in Mesopotamia. Inoltre, è stata rinvenuta una tavoletta con caratteri cuneiformi risalente al 2200 a.C. che descriveva la preparazione del sapone con acqua, sostanze alcaline e olio di cassia. Fino alla rivoluzione industriale il sapone era prodotto in piccole quantità e artigianalmente. Intorno al 1790 il medico e chimico francese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Nicolas Leblanc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scoprì un procedimento per ottenere la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soda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, una sostanza alcalina, dal sale comune. Altri chimici riuscirono poi a produrre soda caustica da soluzioni saline. Questi sviluppi spianarono la strada all'industrializzazione della produzione del sapone. Le prime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produzioni industriali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di sapone risalgono proprio a questo periodo in Inghilterra per poi diffondersi ovunque nel resto del mondo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1" name="Immagine 4" descr="sapone_mandorle.jpg"/>
          <p:cNvPicPr/>
          <p:nvPr/>
        </p:nvPicPr>
        <p:blipFill>
          <a:blip r:embed="rId1"/>
          <a:stretch/>
        </p:blipFill>
        <p:spPr>
          <a:xfrm>
            <a:off x="5429160" y="0"/>
            <a:ext cx="3357720" cy="1879560"/>
          </a:xfrm>
          <a:prstGeom prst="rect">
            <a:avLst/>
          </a:prstGeom>
          <a:ln w="0">
            <a:noFill/>
          </a:ln>
        </p:spPr>
      </p:pic>
      <p:pic>
        <p:nvPicPr>
          <p:cNvPr id="362" name="Immagine 6" descr="sapone.jpg"/>
          <p:cNvPicPr/>
          <p:nvPr/>
        </p:nvPicPr>
        <p:blipFill>
          <a:blip r:embed="rId2"/>
          <a:srcRect l="5938" t="4148" r="4957" b="3444"/>
          <a:stretch/>
        </p:blipFill>
        <p:spPr>
          <a:xfrm>
            <a:off x="6357960" y="2000160"/>
            <a:ext cx="1785960" cy="2282760"/>
          </a:xfrm>
          <a:prstGeom prst="rect">
            <a:avLst/>
          </a:prstGeom>
          <a:ln w="0">
            <a:noFill/>
          </a:ln>
        </p:spPr>
      </p:pic>
      <p:pic>
        <p:nvPicPr>
          <p:cNvPr id="363" name="Immagine 7" descr="20060224001847.jpg"/>
          <p:cNvPicPr/>
          <p:nvPr/>
        </p:nvPicPr>
        <p:blipFill>
          <a:blip r:embed="rId3"/>
          <a:srcRect l="19063" t="3128" r="17660" b="0"/>
          <a:stretch/>
        </p:blipFill>
        <p:spPr>
          <a:xfrm>
            <a:off x="5929200" y="4473720"/>
            <a:ext cx="207648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63579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Verdana"/>
              </a:rPr>
              <a:t>PERCHÉ IL SAPONE PULISCE </a:t>
            </a:r>
            <a:r>
              <a:rPr b="0" lang="en-US" sz="4800" spc="-1" strike="noStrike">
                <a:solidFill>
                  <a:srgbClr val="424456"/>
                </a:solidFill>
                <a:latin typeface="Verdana"/>
              </a:rPr>
              <a:t>?</a:t>
            </a:r>
            <a:endParaRPr b="0" lang="en-US" sz="48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65" name="CasellaDiTesto 3"/>
          <p:cNvSpPr/>
          <p:nvPr/>
        </p:nvSpPr>
        <p:spPr>
          <a:xfrm>
            <a:off x="428760" y="1214280"/>
            <a:ext cx="5214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l sapone è un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sale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, ottenuto principalmente dalla reazione tra una base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alcalina e un acid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, che può essere un grasso animale o vegetale. Affinché tale reazione abbia luogo, occorre aggiungere della potassa caustica (per ottenere il sapone liquido) o della soda caustica (per ottenere un sapone solido) in un liquido (solitamente l'acqua o il latte). Il sapone pulisce il nostro corpo perché la carica delle molecole del nuovo composto così formato è negativa ed è quindi in grado di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emulsionare le sostanze grasse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, come appunto è lo sporco, che verranno successivamente allontanate con il risciaquo fina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6" name="Immagine 4" descr="belkin-washable-mouse.jpg"/>
          <p:cNvPicPr/>
          <p:nvPr/>
        </p:nvPicPr>
        <p:blipFill>
          <a:blip r:embed="rId1"/>
          <a:stretch/>
        </p:blipFill>
        <p:spPr>
          <a:xfrm>
            <a:off x="5786280" y="1000080"/>
            <a:ext cx="2837160" cy="2333520"/>
          </a:xfrm>
          <a:prstGeom prst="rect">
            <a:avLst/>
          </a:prstGeom>
          <a:ln w="0">
            <a:noFill/>
          </a:ln>
        </p:spPr>
      </p:pic>
      <p:pic>
        <p:nvPicPr>
          <p:cNvPr id="367" name="Immagine 5" descr="hand-wash.jpg"/>
          <p:cNvPicPr/>
          <p:nvPr/>
        </p:nvPicPr>
        <p:blipFill>
          <a:blip r:embed="rId2"/>
          <a:stretch/>
        </p:blipFill>
        <p:spPr>
          <a:xfrm>
            <a:off x="5500800" y="3857760"/>
            <a:ext cx="2550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746784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Verdana"/>
              </a:rPr>
              <a:t>COSTI AL CONSUMATORE:</a:t>
            </a: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pic>
        <p:nvPicPr>
          <p:cNvPr id="369" name="Immagine 7" descr="Saponetta Lux beauty soa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642960"/>
            <a:ext cx="1500480" cy="1500120"/>
          </a:xfrm>
          <a:prstGeom prst="rect">
            <a:avLst/>
          </a:prstGeom>
          <a:ln w="0">
            <a:noFill/>
          </a:ln>
        </p:spPr>
      </p:pic>
      <p:sp>
        <p:nvSpPr>
          <p:cNvPr id="370" name="CasellaDiTesto 5"/>
          <p:cNvSpPr/>
          <p:nvPr/>
        </p:nvSpPr>
        <p:spPr>
          <a:xfrm>
            <a:off x="357120" y="1928880"/>
            <a:ext cx="2500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Prod.: Lu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Peso: 125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Carat.: Igiene initim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Prezzo: € 1,19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1" name="Immagine 11" descr="Saponetta l'Amande alla 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71840" y="714240"/>
            <a:ext cx="1571400" cy="1571760"/>
          </a:xfrm>
          <a:prstGeom prst="rect">
            <a:avLst/>
          </a:prstGeom>
          <a:ln w="0">
            <a:noFill/>
          </a:ln>
        </p:spPr>
      </p:pic>
      <p:sp>
        <p:nvSpPr>
          <p:cNvPr id="372" name="CasellaDiTesto 10"/>
          <p:cNvSpPr/>
          <p:nvPr/>
        </p:nvSpPr>
        <p:spPr>
          <a:xfrm>
            <a:off x="3786120" y="1143000"/>
            <a:ext cx="2500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Prod.: l’Amand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Peso: 125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Carat.: Naturale, latte di mandorle, e miel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Prezzo: € 2,19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3" name="img_width_297" descr="http://www.miaerboristeria.it/skins/aquarelle_green/customer/images/spacer.gif"/>
          <p:cNvPicPr/>
          <p:nvPr/>
        </p:nvPicPr>
        <p:blipFill>
          <a:blip r:embed="rId5"/>
          <a:stretch/>
        </p:blipFill>
        <p:spPr>
          <a:xfrm>
            <a:off x="0" y="0"/>
            <a:ext cx="628560" cy="9360"/>
          </a:xfrm>
          <a:prstGeom prst="rect">
            <a:avLst/>
          </a:prstGeom>
          <a:ln w="0">
            <a:noFill/>
          </a:ln>
        </p:spPr>
      </p:pic>
      <p:pic>
        <p:nvPicPr>
          <p:cNvPr id="374" name="det_img_297" descr="L'Erbolario Uomo Linea Verde sapone scrub panetto 200 g"/>
          <p:cNvPicPr/>
          <p:nvPr/>
        </p:nvPicPr>
        <p:blipFill>
          <a:blip r:embed="rId6"/>
          <a:srcRect l="7973" t="4766" r="447" b="4766"/>
          <a:stretch/>
        </p:blipFill>
        <p:spPr>
          <a:xfrm>
            <a:off x="357120" y="3357720"/>
            <a:ext cx="1643040" cy="135720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CasellaDiTesto 21"/>
          <p:cNvSpPr/>
          <p:nvPr/>
        </p:nvSpPr>
        <p:spPr>
          <a:xfrm>
            <a:off x="571680" y="4786200"/>
            <a:ext cx="2500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Prod.: Erbolari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Peso: 200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Carat.: Betulla e rosmarin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Prezzo: € 4,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7" name="Immagine 22" descr=""/>
          <p:cNvPicPr/>
          <p:nvPr/>
        </p:nvPicPr>
        <p:blipFill>
          <a:blip r:embed="rId7"/>
          <a:stretch/>
        </p:blipFill>
        <p:spPr>
          <a:xfrm>
            <a:off x="2643120" y="2857680"/>
            <a:ext cx="1893960" cy="1428480"/>
          </a:xfrm>
          <a:prstGeom prst="rect">
            <a:avLst/>
          </a:prstGeom>
          <a:ln w="0">
            <a:noFill/>
          </a:ln>
        </p:spPr>
      </p:pic>
      <p:sp>
        <p:nvSpPr>
          <p:cNvPr id="378" name="CasellaDiTesto 24"/>
          <p:cNvSpPr/>
          <p:nvPr/>
        </p:nvSpPr>
        <p:spPr>
          <a:xfrm>
            <a:off x="3429000" y="4214880"/>
            <a:ext cx="2714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Prod.: Herb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Peso: 125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Carat.: Profumo di alo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Prezzo: € 7,8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20" descr=""/>
          <p:cNvPicPr/>
          <p:nvPr/>
        </p:nvPicPr>
        <p:blipFill>
          <a:blip r:embed="rId8"/>
          <a:stretch/>
        </p:blipFill>
        <p:spPr>
          <a:xfrm>
            <a:off x="6429240" y="642960"/>
            <a:ext cx="1857600" cy="1857240"/>
          </a:xfrm>
          <a:prstGeom prst="rect">
            <a:avLst/>
          </a:prstGeom>
          <a:ln w="0">
            <a:noFill/>
          </a:ln>
        </p:spPr>
      </p:pic>
      <p:sp>
        <p:nvSpPr>
          <p:cNvPr id="380" name="CasellaDiTesto 28"/>
          <p:cNvSpPr/>
          <p:nvPr/>
        </p:nvSpPr>
        <p:spPr>
          <a:xfrm>
            <a:off x="6072120" y="2357280"/>
            <a:ext cx="2786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Prod.: La Sicilia a tavol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Peso: 100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Carat.: olio d’oliv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Prezzo: € 3,4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1" name="Picture 21" descr=""/>
          <p:cNvPicPr/>
          <p:nvPr/>
        </p:nvPicPr>
        <p:blipFill>
          <a:blip r:embed="rId9"/>
          <a:srcRect l="7685" t="23079" r="19224" b="23079"/>
          <a:stretch/>
        </p:blipFill>
        <p:spPr>
          <a:xfrm>
            <a:off x="6215040" y="3714840"/>
            <a:ext cx="1357200" cy="1000080"/>
          </a:xfrm>
          <a:prstGeom prst="rect">
            <a:avLst/>
          </a:prstGeom>
          <a:ln w="0">
            <a:noFill/>
          </a:ln>
        </p:spPr>
      </p:pic>
      <p:sp>
        <p:nvSpPr>
          <p:cNvPr id="382" name="CasellaDiTesto 30"/>
          <p:cNvSpPr/>
          <p:nvPr/>
        </p:nvSpPr>
        <p:spPr>
          <a:xfrm>
            <a:off x="6286680" y="4643280"/>
            <a:ext cx="2714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Prod.: Sebam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Peso: 150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Carat.: Pelli sensibil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Prezzo: € 8,9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38574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Verdana"/>
              </a:rPr>
              <a:t>PROBLEMATICHE:</a:t>
            </a: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84" name="CasellaDiTesto 2"/>
          <p:cNvSpPr/>
          <p:nvPr/>
        </p:nvSpPr>
        <p:spPr>
          <a:xfrm>
            <a:off x="2928960" y="1428840"/>
            <a:ext cx="600084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Le saponette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endono a sgretolarsi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e a rompersi dopo un lungo utilizzo, quindi vi è uno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spreco di sapone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oltre durante l’utilizzo risulta molto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scivolosa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con il rischio che cada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rima di riporla bisogna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sciacquarla dallo sporco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residuo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Tende sempre ad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attaccarsi al piano su cui viene riposta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a volta asciugata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Tende a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consumarsi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molto velocemen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Inquinament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Immagine 3" descr="page0_blog_entry82_1.jpg"/>
          <p:cNvPicPr/>
          <p:nvPr/>
        </p:nvPicPr>
        <p:blipFill>
          <a:blip r:embed="rId1"/>
          <a:srcRect l="2131" t="5265" r="3723" b="5265"/>
          <a:stretch/>
        </p:blipFill>
        <p:spPr>
          <a:xfrm>
            <a:off x="285840" y="1214280"/>
            <a:ext cx="2603520" cy="1500480"/>
          </a:xfrm>
          <a:prstGeom prst="rect">
            <a:avLst/>
          </a:prstGeom>
          <a:ln w="0">
            <a:noFill/>
          </a:ln>
        </p:spPr>
      </p:pic>
      <p:pic>
        <p:nvPicPr>
          <p:cNvPr id="386" name="Immagine 4" descr="C:\Documents and Settings\Stefano\Desktop\Università\2°anno\1-DISEGNO INDUSTRIALE_prof. Garroni\saponetta\saponetta.jpg"/>
          <p:cNvPicPr/>
          <p:nvPr/>
        </p:nvPicPr>
        <p:blipFill>
          <a:blip r:embed="rId2"/>
          <a:stretch/>
        </p:blipFill>
        <p:spPr>
          <a:xfrm>
            <a:off x="571680" y="307188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387" name="Immagine 5" descr="aaa.jpg"/>
          <p:cNvPicPr/>
          <p:nvPr/>
        </p:nvPicPr>
        <p:blipFill>
          <a:blip r:embed="rId3"/>
          <a:stretch/>
        </p:blipFill>
        <p:spPr>
          <a:xfrm>
            <a:off x="785880" y="4919760"/>
            <a:ext cx="17859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785600" y="-142920"/>
            <a:ext cx="5186520" cy="17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Verdana"/>
              </a:rPr>
              <a:t>IPOTESI DI INCREMENTO O DIVERSIFICAZIONE DELLE PRESTAZIONI: </a:t>
            </a:r>
            <a:endParaRPr b="0" lang="en-US" sz="3000" spc="-1" strike="noStrike">
              <a:solidFill>
                <a:srgbClr val="424456"/>
              </a:solidFill>
              <a:latin typeface="Verdana"/>
            </a:endParaRPr>
          </a:p>
        </p:txBody>
      </p:sp>
      <p:sp>
        <p:nvSpPr>
          <p:cNvPr id="389" name="CasellaDiTesto 2"/>
          <p:cNvSpPr/>
          <p:nvPr/>
        </p:nvSpPr>
        <p:spPr>
          <a:xfrm>
            <a:off x="2214720" y="1857240"/>
            <a:ext cx="4500360" cy="46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- Prendendo in considerazione le problematiche sopraelencate abbiamo pensato di creare un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rivestimento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he permetta di mantenere intatta la saponetta al suo interno e che ricopra anche la funzione di antiscivolo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reare una pasta che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non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produca schium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l solo utilizzo di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ingredienti non inquinant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Immagine 3" descr="saponiasciugamani.gif"/>
          <p:cNvPicPr/>
          <p:nvPr/>
        </p:nvPicPr>
        <p:blipFill>
          <a:blip r:embed="rId1"/>
          <a:stretch/>
        </p:blipFill>
        <p:spPr>
          <a:xfrm>
            <a:off x="357120" y="5132520"/>
            <a:ext cx="1857600" cy="1511280"/>
          </a:xfrm>
          <a:prstGeom prst="rect">
            <a:avLst/>
          </a:prstGeom>
          <a:ln w="0">
            <a:noFill/>
          </a:ln>
        </p:spPr>
      </p:pic>
      <p:pic>
        <p:nvPicPr>
          <p:cNvPr id="391" name="Immagine 5" descr="C:\Documents and Settings\Stefano\Desktop\Università\2°anno\1-DISEGNO INDUSTRIALE_prof. Garroni\saponetta\berlusca_saponetta_N.jpg"/>
          <p:cNvPicPr/>
          <p:nvPr/>
        </p:nvPicPr>
        <p:blipFill>
          <a:blip r:embed="rId2"/>
          <a:srcRect l="0" t="21128" r="0" b="15487"/>
          <a:stretch/>
        </p:blipFill>
        <p:spPr>
          <a:xfrm>
            <a:off x="6572160" y="1000080"/>
            <a:ext cx="1952640" cy="1285920"/>
          </a:xfrm>
          <a:prstGeom prst="rect">
            <a:avLst/>
          </a:prstGeom>
          <a:ln w="0">
            <a:noFill/>
          </a:ln>
        </p:spPr>
      </p:pic>
      <p:pic>
        <p:nvPicPr>
          <p:cNvPr id="392" name="Immagine 6" descr="saponette.jpg"/>
          <p:cNvPicPr/>
          <p:nvPr/>
        </p:nvPicPr>
        <p:blipFill>
          <a:blip r:embed="rId3"/>
          <a:stretch/>
        </p:blipFill>
        <p:spPr>
          <a:xfrm>
            <a:off x="6072120" y="3768840"/>
            <a:ext cx="2000160" cy="1500120"/>
          </a:xfrm>
          <a:prstGeom prst="rect">
            <a:avLst/>
          </a:prstGeom>
          <a:ln w="0">
            <a:noFill/>
          </a:ln>
        </p:spPr>
      </p:pic>
      <p:pic>
        <p:nvPicPr>
          <p:cNvPr id="393" name="Immagine 7" descr="103_040.jpg"/>
          <p:cNvPicPr/>
          <p:nvPr/>
        </p:nvPicPr>
        <p:blipFill>
          <a:blip r:embed="rId4"/>
          <a:srcRect l="3179" t="33343" r="0" b="0"/>
          <a:stretch/>
        </p:blipFill>
        <p:spPr>
          <a:xfrm>
            <a:off x="142920" y="2214720"/>
            <a:ext cx="2170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15:33:38Z</dcterms:created>
  <dc:creator>PЯ</dc:creator>
  <dc:description/>
  <dc:language>en-US</dc:language>
  <cp:lastModifiedBy>a</cp:lastModifiedBy>
  <dcterms:modified xsi:type="dcterms:W3CDTF">2007-12-20T17:05:26Z</dcterms:modified>
  <cp:revision>41</cp:revision>
  <dc:subject/>
  <dc:title>Diapositiva 1</dc:title>
</cp:coreProperties>
</file>