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66D56-E173-4AC3-B9CC-7D0064EF7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632C-693A-400A-8DB7-B2888D96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2AE2D-AA10-4144-9AB4-DDD28E1BA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E5CDB-11A0-488B-9687-7836A940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85AAC-2645-4A94-857C-1D6C53DAC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E0F28-DAC7-433D-A617-59AD6B376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F6A6D-F14B-4D04-A228-B6E74B8EE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D2A72-5793-4AA8-B74D-BAFACCD83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DCAF4-C30B-4D90-A09E-FBAC77353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DB8F9-D478-4B46-B5FE-76F58363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26892-DA40-4598-9CF1-6AEF99EB3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0D84-50F2-49C1-A55D-56D51BC3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DEAC3-B13F-42B7-9978-338DE68DD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B3CD-A063-4C11-A180-DC4A8E91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D02C5-3259-4AF8-8BA2-37237A65C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E7127-D068-467A-8E69-C48C9E4E4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C7842-93B0-4317-AEDC-1ACA2946D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68F02E-FF5D-448D-A68E-A293ECF8C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B7F36-FE3B-4F84-AA13-B10FDF7C6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18B39-5EDA-4235-9C73-E0DEF729C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35A6E-1B4E-4728-9C29-09CC15C31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4161C-957B-4050-B38C-8797E8F84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C226-469D-4F22-B1D0-7B7FA1AC7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491F3-55A9-45E1-A915-F0327AB49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6FCEB-5138-4AE4-8990-6C1FE8732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6327A-0B84-450F-8270-46CCF32B8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24680-7DEF-4BDC-85E1-6DE7771ED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4368A-7B1A-4798-8BA5-CDB106E54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63C3D-C418-4B50-BEBE-AEA5823B5D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594CC-B2F0-480A-AB47-F91FC75EAD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28D2B-196A-450E-A2CB-CFEBC4B0C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FE7F3F-02FE-4E7A-A1EB-B7ABE9E87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E7D7D-F5B2-4268-915C-CADB3B49D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35C3-5205-4FFD-993D-316D17A3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9"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0"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28A68-E05E-4D11-9E11-113D19E21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DDB22-032B-4C68-84FB-902D667C8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C8EA7-BDE8-4D96-BD8E-402D35A70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4"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6D0AB-4029-40F8-89CD-6F9DF3807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8"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52546-51CF-424B-9EA1-566D0F148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2"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9D295-F0D4-48A6-9DAA-53624C877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6"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B6C22-B69C-43B5-A851-CC5078570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9"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7788E0-D98A-49EA-B2A8-AFF98B56B4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4"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6DB26C-2288-4BC7-999B-9338407ECE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17E997-1C18-4D52-8DAD-C3A3F7DF78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942BF-7A55-422D-9661-D6096465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359EE-88BA-431E-ADC4-580ACF7D6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E598F-56EA-450F-A6B3-468018DB6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0"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1"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1AECD-4DBC-41F0-9E79-29EB7AB4E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1C71D-077B-45AC-A1BD-5ABCA63B3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9B293-E8EE-4AF2-85F0-E25B96BE5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5"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8B099-C7B1-44A5-923D-48EFDA1DC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2D1DD-644B-4C75-99A3-6B8281E06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F90F4-F565-451A-98CE-AF55ECA82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B21AB-653C-47E0-A291-B652F210B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0"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5DAA5-2A16-40D2-8240-923BB0EBE7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06FF-1626-4940-86C6-773F3BD45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5"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CD5306-3A12-4641-B5F7-79D36AD366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9B15B9-0455-4321-9467-2456EF78DE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C4BC6-53C5-4A3A-BD2F-04B2B7A759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5860B-C491-476B-8B67-28B5E578E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1"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2"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7BB98-C20E-4624-B3AB-D7E6A368B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7ECB7-E0B1-4EAA-A911-A957F83C4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42577D-6BB0-4435-B81A-D2A199459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17A58-84A5-4300-93CB-9664CEC24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0"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08102-FBD9-4C13-B1D7-DF87A05E11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4"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C5AE6-EC12-465D-988F-377E96679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A7A1-BCEF-4F4F-A8D0-1E50E992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8"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9A4BE-A283-4775-A837-F83C9C4F1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1"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362E1A-576C-437C-9564-73ECAC93F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6"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5B10DA-1B04-4425-B4BD-FE0E17782B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7991B3-6537-4CA8-B2A8-F0915C64A8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CA68F7-5DD2-4AC7-B602-36E6A4FEE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E734F6-3CF9-401F-B24E-CF4E55335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2"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3"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147F1E-2E5C-444C-81C9-A15F5C8231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388E3-3A69-4EC7-9E71-742D25B18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A090D-2C32-4E83-BD53-B30EE4153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7"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208D2-8114-4C9A-B298-563E5D3BB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CBF0-F606-464A-AD38-EAC9E03D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1"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ED4A3-6179-4877-B028-D6A0A1980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5"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84782-B6E8-46EB-8C17-94763EA04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9"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34110C-BF29-459D-B446-7F129E979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2"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B3F88-C876-420D-AFBF-005F9D57F0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7"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AC35FF-8392-428F-A8E4-DDF6CA2EFA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2247D-D66D-4B60-B42D-A8000ED3C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Triangolo rettangolo 10"/>
          <p:cNvSpPr/>
          <p:nvPr/>
        </p:nvSpPr>
        <p:spPr>
          <a:xfrm>
            <a:off x="6480" y="14400"/>
            <a:ext cx="989316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Connettore 1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Connettore 1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191200" y="6481800"/>
            <a:ext cx="231120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95000" y="6481800"/>
            <a:ext cx="46148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221320" y="6481800"/>
            <a:ext cx="5461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3436-1766-41B2-BC2C-0D95746CF66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Triangolo rettangolo 10"/>
          <p:cNvSpPr/>
          <p:nvPr/>
        </p:nvSpPr>
        <p:spPr>
          <a:xfrm>
            <a:off x="6480" y="14400"/>
            <a:ext cx="989316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Connettore 1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Connettore 1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Triangolo isoscele 9"/>
          <p:cNvSpPr/>
          <p:nvPr/>
        </p:nvSpPr>
        <p:spPr>
          <a:xfrm rot="16200000">
            <a:off x="8261280" y="5200560"/>
            <a:ext cx="1893960" cy="140148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485720" y="6012000"/>
            <a:ext cx="62737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485720" y="5649840"/>
            <a:ext cx="6273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091080" y="5753160"/>
            <a:ext cx="544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E659-ABB2-4676-8D62-601D3373A14A}"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Triangolo rettangolo 10"/>
          <p:cNvSpPr/>
          <p:nvPr/>
        </p:nvSpPr>
        <p:spPr>
          <a:xfrm>
            <a:off x="6480" y="14400"/>
            <a:ext cx="989316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Connettore 1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Connettore 1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191200" y="6480000"/>
            <a:ext cx="231120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95000" y="6481440"/>
            <a:ext cx="46148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221320" y="6481800"/>
            <a:ext cx="5461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34F7-05F2-4253-9186-C9B200F35DB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grpSp>
        <p:nvGrpSpPr>
          <p:cNvPr id="133" name="Triangolo rettangolo 9"/>
          <p:cNvGrpSpPr/>
          <p:nvPr/>
        </p:nvGrpSpPr>
        <p:grpSpPr>
          <a:xfrm>
            <a:off x="0" y="0"/>
            <a:ext cx="9906120" cy="6851520"/>
            <a:chOff x="0" y="0"/>
            <a:chExt cx="9906120" cy="6851520"/>
          </a:xfrm>
        </p:grpSpPr>
        <p:pic>
          <p:nvPicPr>
            <p:cNvPr id="134" name="Triangolo rettangolo 9" descr=""/>
            <p:cNvPicPr/>
            <p:nvPr/>
          </p:nvPicPr>
          <p:blipFill>
            <a:blip r:embed="rId2"/>
            <a:stretch/>
          </p:blipFill>
          <p:spPr>
            <a:xfrm>
              <a:off x="0" y="0"/>
              <a:ext cx="9906120" cy="6851520"/>
            </a:xfrm>
            <a:prstGeom prst="rect">
              <a:avLst/>
            </a:prstGeom>
            <a:ln w="0">
              <a:noFill/>
            </a:ln>
          </p:spPr>
        </p:pic>
        <p:sp>
          <p:nvSpPr>
            <p:cNvPr id="135" name=""/>
            <p:cNvSpPr/>
            <p:nvPr/>
          </p:nvSpPr>
          <p:spPr>
            <a:xfrm rot="10800000">
              <a:off x="829800" y="576000"/>
              <a:ext cx="4946760" cy="227952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Triangolo isoscele 11"/>
          <p:cNvSpPr/>
          <p:nvPr/>
        </p:nvSpPr>
        <p:spPr>
          <a:xfrm flipV="1" rot="5400000">
            <a:off x="8261280" y="254520"/>
            <a:ext cx="1893960" cy="140148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Connettore 1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Connettore 1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40"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1" name="PlaceHolder 3"/>
          <p:cNvSpPr>
            <a:spLocks noGrp="1"/>
          </p:cNvSpPr>
          <p:nvPr>
            <p:ph type="dt" idx="10"/>
          </p:nvPr>
        </p:nvSpPr>
        <p:spPr>
          <a:xfrm>
            <a:off x="7535520" y="6477120"/>
            <a:ext cx="231156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2" name="PlaceHolder 4"/>
          <p:cNvSpPr>
            <a:spLocks noGrp="1"/>
          </p:cNvSpPr>
          <p:nvPr>
            <p:ph type="ftr" idx="11"/>
          </p:nvPr>
        </p:nvSpPr>
        <p:spPr>
          <a:xfrm>
            <a:off x="2838240" y="6481440"/>
            <a:ext cx="46148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type="sldNum" idx="12"/>
          </p:nvPr>
        </p:nvSpPr>
        <p:spPr>
          <a:xfrm>
            <a:off x="9155160" y="809280"/>
            <a:ext cx="54432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8160-DFAE-41C8-9776-23F8CB93D62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1"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2" name="PlaceHolder 3"/>
          <p:cNvSpPr>
            <a:spLocks noGrp="1"/>
          </p:cNvSpPr>
          <p:nvPr>
            <p:ph type="dt" idx="13"/>
          </p:nvPr>
        </p:nvSpPr>
        <p:spPr>
          <a:xfrm>
            <a:off x="5190840" y="6481800"/>
            <a:ext cx="23065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3" name="PlaceHolder 4"/>
          <p:cNvSpPr>
            <a:spLocks noGrp="1"/>
          </p:cNvSpPr>
          <p:nvPr>
            <p:ph type="ftr" idx="14"/>
          </p:nvPr>
        </p:nvSpPr>
        <p:spPr>
          <a:xfrm>
            <a:off x="495000" y="6481800"/>
            <a:ext cx="46162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5"/>
          <p:cNvSpPr>
            <a:spLocks noGrp="1"/>
          </p:cNvSpPr>
          <p:nvPr>
            <p:ph type="sldNum" idx="15"/>
          </p:nvPr>
        </p:nvSpPr>
        <p:spPr>
          <a:xfrm>
            <a:off x="8221320" y="6483240"/>
            <a:ext cx="5461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1C61-6FA5-49A6-86E2-AE79A370393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2"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3" name="PlaceHolder 3"/>
          <p:cNvSpPr>
            <a:spLocks noGrp="1"/>
          </p:cNvSpPr>
          <p:nvPr>
            <p:ph type="dt" idx="16"/>
          </p:nvPr>
        </p:nvSpPr>
        <p:spPr>
          <a:xfrm>
            <a:off x="6802560" y="6556320"/>
            <a:ext cx="231120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4" name="PlaceHolder 4"/>
          <p:cNvSpPr>
            <a:spLocks noGrp="1"/>
          </p:cNvSpPr>
          <p:nvPr>
            <p:ph type="ftr" idx="17"/>
          </p:nvPr>
        </p:nvSpPr>
        <p:spPr>
          <a:xfrm>
            <a:off x="1230480" y="6556320"/>
            <a:ext cx="5572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5"/>
          <p:cNvSpPr>
            <a:spLocks noGrp="1"/>
          </p:cNvSpPr>
          <p:nvPr>
            <p:ph type="sldNum" idx="18"/>
          </p:nvPr>
        </p:nvSpPr>
        <p:spPr>
          <a:xfrm>
            <a:off x="9112320" y="6556320"/>
            <a:ext cx="5443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BFF6-66FA-4893-9682-E658F77041FF}"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3"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4" name="PlaceHolder 3"/>
          <p:cNvSpPr>
            <a:spLocks noGrp="1"/>
          </p:cNvSpPr>
          <p:nvPr>
            <p:ph type="dt" idx="19"/>
          </p:nvPr>
        </p:nvSpPr>
        <p:spPr>
          <a:xfrm>
            <a:off x="6618240" y="6556320"/>
            <a:ext cx="227664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5" name="PlaceHolder 4"/>
          <p:cNvSpPr>
            <a:spLocks noGrp="1"/>
          </p:cNvSpPr>
          <p:nvPr>
            <p:ph type="ftr" idx="20"/>
          </p:nvPr>
        </p:nvSpPr>
        <p:spPr>
          <a:xfrm>
            <a:off x="1266840" y="6557760"/>
            <a:ext cx="536112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8900640" y="6556320"/>
            <a:ext cx="3985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D30D-893E-4F70-A8D6-60FE17421563}"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3" name="Titolo 1" descr=""/>
          <p:cNvPicPr/>
          <p:nvPr/>
        </p:nvPicPr>
        <p:blipFill>
          <a:blip r:embed="rId1"/>
          <a:stretch/>
        </p:blipFill>
        <p:spPr>
          <a:xfrm>
            <a:off x="579600" y="731880"/>
            <a:ext cx="8942400" cy="772920"/>
          </a:xfrm>
          <a:prstGeom prst="rect">
            <a:avLst/>
          </a:prstGeom>
          <a:ln w="0">
            <a:noFill/>
          </a:ln>
        </p:spPr>
      </p:pic>
      <p:pic>
        <p:nvPicPr>
          <p:cNvPr id="304" name="Sottotitolo 2" descr=""/>
          <p:cNvPicPr/>
          <p:nvPr/>
        </p:nvPicPr>
        <p:blipFill>
          <a:blip r:embed="rId2"/>
          <a:stretch/>
        </p:blipFill>
        <p:spPr>
          <a:xfrm>
            <a:off x="-6480" y="2193840"/>
            <a:ext cx="10004400" cy="598680"/>
          </a:xfrm>
          <a:prstGeom prst="rect">
            <a:avLst/>
          </a:prstGeom>
          <a:ln w="0">
            <a:noFill/>
          </a:ln>
        </p:spPr>
      </p:pic>
      <p:sp>
        <p:nvSpPr>
          <p:cNvPr id="305" name="CasellaDiTesto 3"/>
          <p:cNvSpPr/>
          <p:nvPr/>
        </p:nvSpPr>
        <p:spPr>
          <a:xfrm>
            <a:off x="2786040" y="5842080"/>
            <a:ext cx="6656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Corso di Disegno Industriale Contemporane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Prof. G. Garron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a.a.07/08</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Studenti De Rosa Laura, Illuminati Tiziana, Sciamanna Luca, Vaccaro Giusepp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6" name="CasellaDiTesto 3"/>
          <p:cNvSpPr/>
          <p:nvPr/>
        </p:nvSpPr>
        <p:spPr>
          <a:xfrm>
            <a:off x="0" y="571680"/>
            <a:ext cx="95965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rPr>
              <a:t>Il vassoio è un oggetto versatile adatto a diversi ambienti e contesti , per questo è stato studiato da molte aziende che hanno cercato l’innovazione, reinventando forme, materiali e funzioni, conferendo così nuove capacità integrative all’ogget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rPr>
              <a:t>Le varietà di materiali utilizzati sono infinite, rendendo possibili grandi diversificazioni di prezzo, dai vassoi usa-e-getta in cartone, usati soprattutto in pasticcerie e rosticcerie, a quelli più tecnologici in materiale antiscivolo, o i pregiati in legno intarsiato o ferro decora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rPr>
              <a:t>I metodi produttivi possono essere i più svariati: lo stampaggio a iniezione, l’estrusione, la pressatura, ecc...</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307" name=""/>
          <p:cNvGraphicFramePr/>
          <p:nvPr/>
        </p:nvGraphicFramePr>
        <p:xfrm>
          <a:off x="5803920" y="2714760"/>
          <a:ext cx="3792600" cy="2928960"/>
        </p:xfrm>
        <a:graphic>
          <a:graphicData uri="http://schemas.openxmlformats.org/drawingml/2006/table">
            <a:tbl>
              <a:tblPr/>
              <a:tblGrid>
                <a:gridCol w="1774800"/>
                <a:gridCol w="2017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Arial"/>
                        </a:rPr>
                        <a:t>Azien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entury Gothic"/>
                          <a:ea typeface="Arial"/>
                        </a:rPr>
                        <a:t>Costo (da-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G.M.G s.r.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30 - 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Bravacas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5,20 - 96,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Stilpla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10 - 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Moec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Ves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80 - 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Cosi Tabellin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80 - 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Aless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15 - 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pic>
        <p:nvPicPr>
          <p:cNvPr id="308" name="Picture 2" descr="0306_01"/>
          <p:cNvPicPr/>
          <p:nvPr/>
        </p:nvPicPr>
        <p:blipFill>
          <a:blip r:embed="rId1"/>
          <a:stretch/>
        </p:blipFill>
        <p:spPr>
          <a:xfrm>
            <a:off x="541440" y="2714760"/>
            <a:ext cx="4489200" cy="3919320"/>
          </a:xfrm>
          <a:prstGeom prst="rect">
            <a:avLst/>
          </a:prstGeom>
          <a:ln w="0">
            <a:noFill/>
          </a:ln>
        </p:spPr>
      </p:pic>
      <p:sp>
        <p:nvSpPr>
          <p:cNvPr id="309" name="CasellaDiTesto 8"/>
          <p:cNvSpPr/>
          <p:nvPr/>
        </p:nvSpPr>
        <p:spPr>
          <a:xfrm>
            <a:off x="0" y="214200"/>
            <a:ext cx="9906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entury Gothic"/>
              </a:rPr>
              <a:t>Vassoio Multiu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10" name="CasellaDiTesto 3"/>
          <p:cNvSpPr/>
          <p:nvPr/>
        </p:nvSpPr>
        <p:spPr>
          <a:xfrm>
            <a:off x="309600" y="571680"/>
            <a:ext cx="959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Rectangle 2"/>
          <p:cNvSpPr/>
          <p:nvPr/>
        </p:nvSpPr>
        <p:spPr>
          <a:xfrm>
            <a:off x="166680" y="566640"/>
            <a:ext cx="951876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Calibri"/>
              </a:rPr>
              <a:t>Da un’intervista informale circa le prestazioni e le aspettative su questo prodotto sono emersi pareri contrastanti, ma le ipotesi di intervento sono le stesse. Si desidera un prodotto migliorato che sia effettivamente innovativo e versatile, da utilizzare in cucina, in salotto, in ufficio: un vassoio “multiuso”.</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Calibri"/>
              </a:rPr>
              <a:t>Pensiamo quindi di intervenire sulla funzionalità di questo prodotto, in modo da adattarlo a diversi contesti, ottimizzandone le capacità intrinseche a seconda della situazion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Interessante è la possibilità di avere un vassoio capace di mantenere i cibi a temperatura costante, anche se solo per un tempo limitato, mediante un supporto precedentemente riscaldat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innovativo vassoio-tavolino che offre varie modalità d’ impiego, potrebbe soddisfare la caratteristica di versatilità che vogliamo dare al prodotto: dalla colazione a letto allo spuntino in poltrona guardando la tv, ma anche in ambito lavorativo. Il punto di forza di questo prodotto potrebbe essere costituito dalla possibilità di utilizzarlo sia come vassoio sia come tavolino; occorre solo estrarre gli appositi sostegni a scomparsa per avere un comodo piano d’appoggi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vassoio double-face in legno, integrante due diverse funzioni, quella di servizio e quella di tagliere. Per una veloce preparazione e “messa in tavola” immediata.</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idea sarebbe sostituire la tradizionale tovaglietta da colazione con un prodotto trasformabile: un piano unico dotato di 2 semplici giunti mobili, essi permettono di sollevarne i bordi e fissarli agli estremi con delle calamite. Uno spessore minimo, un materiale resistente e antiscivolo come il poliuretan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Pensando al campo della ristorazione creare un dispositivo isolante esterno applicabile ai vassoi da portata, rende più semplice il trasporto ed evita di scottarsi, inoltre funge da valido appoggio per la messa in tavola.</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piano d’appoggio riponibile con una seduta trasportabile, pensati per chi viaggia o per chi ama stare all’aria aperta, combinati in un’unica soluzione contenitiva. Una borsa od uno zaino che funge da seduta da cui estrarre il piano-vassoi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piano dotato di fondo che si adatti ad ogni postura, perché in materiale sagomato e malleabile, utile specialmente a chi viaggia molto da seduto (in treno), o anche più semplicemente in casa, per mangiare, scrivere o lavorare al computer.</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00:32:53Z</dcterms:created>
  <dc:creator>Giuseppe</dc:creator>
  <dc:description/>
  <dc:language>en-US</dc:language>
  <cp:lastModifiedBy>a</cp:lastModifiedBy>
  <dcterms:modified xsi:type="dcterms:W3CDTF">2007-12-20T17:02:03Z</dcterms:modified>
  <cp:revision>32</cp:revision>
  <dc:subject/>
  <dc:title>Temi  Progettuali  11 e 12</dc:title>
</cp:coreProperties>
</file>