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31B-A1FD-4300-8571-7CF4B749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26E-B094-40B3-91AB-0A5BD8CD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433-142D-471B-9A16-51B6B25C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E7A-5974-48E8-BD79-2E4D52FC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735-95E7-4A13-BD7A-C9B8A2C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294-7115-4430-B277-788C984C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EC8-E9F9-449F-B7EA-8B20CA42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04A-985C-42C4-9B7D-1E0AB91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20F-F48D-4291-9CD7-03B9E079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B97-144A-448D-9B89-0839DC1D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3D3-5027-44F6-82ED-AAA4C391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02F-B191-4212-868C-A19CBB1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6A22-150D-406F-9B2B-D8A9871DE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1196640"/>
            <a:ext cx="6553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 base a tutte le informazioni raccolte possiamo dire ch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le varie tipologie in commercio includono porta-pillole giornalieri (con la distinzione delle tre fasce orarie “mattina, pomeriggio e sera”), settimanali e settimanali con la divisione delle varie tera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la fascia di prezzo al pubblico del porta-pillole parte da un minimo di euro 2,50 circa ad un massimo che può superare i 20,00 euro; questa cifra può andare oltre se prendiamo in considerazione anche le datate scatoline in arg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il prezzo può dipendere quindi dal materiale utilizzato, dal fatto che il prodotto sia più o meno tecnicizzato (con la disponibilità dell’attacco magnetico o/e del timer) o che sia polifunzionale, come nel caso del taglia-pillole o frantuma-pillo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a un’indagine fatta ai fruitori si è constatato che sono in pochi ad utilizzare porta-pillole tecnologicamente avanzati, mentre più diffuse sono sicuramente le semplici scatoline, magari in argento regalate in qualche occasione speciale, o addirittura i semplici blister con i quali si confezionano direttamente le compres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problema è che nel caso in cui si debbano prendere più tipologie di compresse al giorno, portare i vari blister risulterebbe scom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26028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e1217"/>
                </a:solidFill>
                <a:latin typeface="Verdana"/>
              </a:rPr>
              <a:t>Porta-pill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ORTAPILLOLE GIORNALIERO "/>
          <p:cNvPicPr/>
          <p:nvPr/>
        </p:nvPicPr>
        <p:blipFill>
          <a:blip r:embed="rId1"/>
          <a:stretch/>
        </p:blipFill>
        <p:spPr>
          <a:xfrm>
            <a:off x="7236000" y="220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PORTAPILLOLE"/>
          <p:cNvPicPr/>
          <p:nvPr/>
        </p:nvPicPr>
        <p:blipFill>
          <a:blip r:embed="rId2"/>
          <a:stretch/>
        </p:blipFill>
        <p:spPr>
          <a:xfrm>
            <a:off x="7236000" y="1125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Portapillole settimanale"/>
          <p:cNvPicPr/>
          <p:nvPr/>
        </p:nvPicPr>
        <p:blipFill>
          <a:blip r:embed="rId3"/>
          <a:stretch/>
        </p:blipFill>
        <p:spPr>
          <a:xfrm>
            <a:off x="7236000" y="11592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PORTAPILLOLE CON TIMER"/>
          <p:cNvPicPr/>
          <p:nvPr/>
        </p:nvPicPr>
        <p:blipFill>
          <a:blip r:embed="rId4"/>
          <a:stretch/>
        </p:blipFill>
        <p:spPr>
          <a:xfrm>
            <a:off x="7236000" y="4005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91280" y="32130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164360" y="522936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11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907920"/>
            <a:ext cx="687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0"/>
            <a:ext cx="0" cy="508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3068640"/>
            <a:ext cx="4535280" cy="318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4176720" cy="293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0" y="1194480"/>
            <a:ext cx="374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rovvisto di pratico scomparto porta-pillole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olto facile da pulire, anche in lavapiatti. Prodotto in materiale atossico ed infrangibile. Taglia in due, quattro pillole di qualsiasi forma, dimensione e consistenza, grazie ad una lametta in acciaio in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4005360"/>
            <a:ext cx="345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antuma in polvere pillole di qualsiasi forma, dimensione e consistenza. Grazie alla sua forma a cuneo brevettata, la pillola viene polverizzata senza attaccarsi sul fo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189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1217"/>
                </a:solidFill>
                <a:latin typeface="Verdana"/>
              </a:rPr>
              <a:t>Access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11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907920"/>
            <a:ext cx="687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59640" y="0"/>
            <a:ext cx="0" cy="508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47640" y="907920"/>
            <a:ext cx="59040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fruttare i blister in cui i medicinali vengono posti dall’azienda produttrice per conservare l’igiene e le proprietà delle pillole st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are un ordine per consentire di estrarre quell’unica pillola di cui si necessità e modularità dei singoli vani che possono essere ampliati a seconda delle diverse esigenz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isibil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ortabilità tramite l’associazione del porta-pillole ad un oggetto che solitamente si porta con 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iniaturizzazione che mantiene comunque le caratteristiche di usabilità e di erg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imer con avviso sonoro o a scelta vibrazione, per non creare motivo di disturbo, e segnale lumin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emoria computerizzata che all’esigenza esplichi la categoria di appartenenza dei singoli medicinali (antidolorifico, antibiotico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47628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potesi </a:t>
            </a:r>
            <a:r>
              <a:rPr b="1" lang="en-US" sz="2000" spc="-1" strike="noStrike">
                <a:solidFill>
                  <a:srgbClr val="ee1217"/>
                </a:solidFill>
                <a:latin typeface="Verdana"/>
              </a:rPr>
              <a:t>d’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11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907920"/>
            <a:ext cx="687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459640" y="0"/>
            <a:ext cx="0" cy="508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42920" y="1773360"/>
            <a:ext cx="705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bbiamo pensato ad un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porta-pillole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he funge anche da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porta-chiave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con un meccanismo a molla come quello della penna e che prevede l’utilizzo di un materiale trasparente in modo da poterne vedere  il contenuto o altrimenti composto da materiale morbido e trasparente tipo silicone che aderisce ad ogni singolo blister in modo da ridurre al minimo lo spazio d’ingomb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Un’altra proposta potrebbe prevedere una struttura impilabile a moduli che permetta di prendere l’unica compressa di cui si necessita posta nel contenitore superiore, l’unico aprib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33336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nov</a:t>
            </a:r>
            <a:r>
              <a:rPr b="1" lang="en-US" sz="2400" spc="-1" strike="noStrike">
                <a:solidFill>
                  <a:srgbClr val="ee1217"/>
                </a:solidFill>
                <a:latin typeface="Verdana"/>
              </a:rPr>
              <a:t>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11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907920"/>
            <a:ext cx="687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0"/>
            <a:ext cx="0" cy="508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6:20:20Z</dcterms:created>
  <dc:creator>lanfranco</dc:creator>
  <dc:description/>
  <dc:language>en-US</dc:language>
  <cp:lastModifiedBy>a</cp:lastModifiedBy>
  <dcterms:modified xsi:type="dcterms:W3CDTF">2007-12-20T17:06:31Z</dcterms:modified>
  <cp:revision>18</cp:revision>
  <dc:subject/>
  <dc:title>Diapositiva 1</dc:title>
</cp:coreProperties>
</file>