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BC62-049E-47CA-A81B-7FF48682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B82-E5B7-4B24-A5AB-19407B02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0ED-0761-4E58-A73F-30DC4FDB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E76-CDDA-4BE6-9B56-2E62D5932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FC61-361E-4798-89F5-FBB8F283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558-63A3-407E-ACE1-CA14CC6D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8459-CBB0-4755-A5B1-34083B66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C832-AA48-49A6-8B57-F41D58B3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A508-451F-4291-908E-63F424CA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AAD-9DCA-42DF-BE36-234F7B69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F66-114D-4934-9299-89410267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0452-CC9F-4C78-84D7-CAD3F40E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4EDC-CF1E-4968-8262-630A2201B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227640" y="4437000"/>
            <a:ext cx="2121120" cy="2121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640" y="260280"/>
            <a:ext cx="4105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accia </a:t>
            </a:r>
            <a:r>
              <a:rPr b="1" lang="en-US" sz="2400" spc="-1" strike="noStrike">
                <a:solidFill>
                  <a:srgbClr val="ee1217"/>
                </a:solidFill>
                <a:latin typeface="Verdana"/>
              </a:rPr>
              <a:t>ter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125360"/>
            <a:ext cx="6119640" cy="52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ll’indagine sul prodotto abbiamo riscontrato ch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 costo al pubblico varia da euro 2 a 30 circa, in base alla capienza (da 500ml a 1500ml),al materiale che influisce sulla capacità di trattenere la temperatura (massimo fino a 6 ore) e dal fatto che sia più o meno innovativa nei particolari (ergonomia della forma, materiale coibente, tipo di apertura del tappo, termometro a cristalli liquidi che indica la temperatura del contenut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La maggior parte  delle borracce termiche dotate di una certa tecnologia  è costituita da due parti di cui, una interna estraibile  eventualmente lavabile che contiene il liquido ed una esterna composta da materiale coib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 un sondaggio diretto ai possibili utenti  è emerso che coloro che ne fanno maggior utilizzo sono gli sportivi che praticano attività outdoo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Zoom immagine"/>
          <p:cNvPicPr/>
          <p:nvPr/>
        </p:nvPicPr>
        <p:blipFill>
          <a:blip r:embed="rId2"/>
          <a:stretch/>
        </p:blipFill>
        <p:spPr>
          <a:xfrm>
            <a:off x="7667640" y="3789360"/>
            <a:ext cx="843120" cy="1936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93080" y="907920"/>
            <a:ext cx="1185840" cy="1185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804000" y="2421000"/>
            <a:ext cx="1328760" cy="1328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11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268360" y="907920"/>
            <a:ext cx="687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459640" y="0"/>
            <a:ext cx="0" cy="508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20720" y="1916280"/>
            <a:ext cx="5472360" cy="35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Migliore ergonomia attraverso una “forma- non forma” e sistema di aggancio innov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ermicità attraverso un metodo ricercato che doni leggerezza e praticità nella ricar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Facile trasportabil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Temperatura regola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Confort maggiore nella ripartizione del peso dei liquid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</a:rPr>
              <a:t>Leggerezza e resist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43280" y="47628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potesi </a:t>
            </a:r>
            <a:r>
              <a:rPr b="1" lang="en-US" sz="2400" spc="-1" strike="noStrike">
                <a:solidFill>
                  <a:srgbClr val="ee1217"/>
                </a:solidFill>
                <a:latin typeface="Verdana"/>
              </a:rPr>
              <a:t>d’interv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11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68360" y="907920"/>
            <a:ext cx="687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0"/>
            <a:ext cx="0" cy="508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16000" y="1700280"/>
            <a:ext cx="655308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rebbe comodo avere una borraccia che venga inserita nell’avambraccio e che distribuisca uniformemente il liquido per tutta la circonferenza della parte anatomica presa in considerazione, ed abbia una valvola pressurizzata che non permetta la fuoriuscita della bevanda e l’entrata dell’aria subito dopo la fase di utilizzo. Il materiale deve avere caratteristiche di coibenza, morbidezza  e flessibilità per permettere l’introduzione di almeno 300ml di liquido. Inoltre è possibile occupare entrambi gli avambracci per raddoppiare la quantità di liquid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 sistema di aggancio prevede l’utilizzo del velcr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333360"/>
            <a:ext cx="295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nov</a:t>
            </a:r>
            <a:r>
              <a:rPr b="1" lang="en-US" sz="2400" spc="-1" strike="noStrike">
                <a:solidFill>
                  <a:srgbClr val="ee1217"/>
                </a:solidFill>
                <a:latin typeface="Verdana"/>
              </a:rPr>
              <a:t>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748720" y="0"/>
            <a:ext cx="395280" cy="6858000"/>
          </a:xfrm>
          <a:prstGeom prst="rect">
            <a:avLst/>
          </a:prstGeom>
          <a:solidFill>
            <a:srgbClr val="ed11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907920"/>
            <a:ext cx="687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0"/>
            <a:ext cx="0" cy="508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39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6:20:20Z</dcterms:created>
  <dc:creator>lanfranco</dc:creator>
  <dc:description/>
  <dc:language>en-US</dc:language>
  <cp:lastModifiedBy>a</cp:lastModifiedBy>
  <dcterms:modified xsi:type="dcterms:W3CDTF">2007-12-20T17:07:25Z</dcterms:modified>
  <cp:revision>17</cp:revision>
  <dc:subject/>
  <dc:title>Diapositiva 1</dc:title>
</cp:coreProperties>
</file>