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wind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C8FC-D7B1-4851-AF54-24578A0CAA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FF3B-4FB4-4BD5-9C3F-77066635418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243B-861F-41D9-98C9-F7834B614C7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77D7-AAD8-451D-832C-F329EC7FA30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6045-8E15-408C-B019-ED7122017F6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38B9-2BD3-47CA-9A15-2E5E51A8934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3300-A2A4-465D-8608-382905F1B65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BDCB-905A-43C1-8001-19972D758A9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BED-1BE9-405F-8E1D-087BB4DC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3CE-943C-4A1D-8733-4A76545E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039-EE8B-4CE1-9553-5C34AE13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064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592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42D-E01B-4E92-BF97-F3D4F66E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453F-57AF-45CF-B7EB-84222F05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E094-178F-48B4-8C58-78DB5474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33B1-1645-4D29-A80F-750D8B37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5473-DD2E-46DC-B879-27716349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1B7B-2DA9-4092-A9DA-C7009C8D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08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19D5-EB50-4D66-B7CD-FC088775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816B-ABBF-49B0-9F3D-1D7374C3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E44-9C84-4AA2-8827-E8DCB2F7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E284-C72B-4A7E-BB30-7FC14A6D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8A74-C385-4A08-ACE7-C627C07B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C2BD-CDDA-4350-80E3-73FBA4DB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6CC4-E8A3-4626-9E80-22DC3B9F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064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592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6F46-8A30-4F82-A50E-6C31FB57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F7BF-C3AA-4F61-A844-277B9ADB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43D3-C355-4797-A5EC-79E97442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9E64-1DB0-4FB1-8905-9787D23A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7376-4E2F-4CBB-AF27-F55467C2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5D02-86CA-4A62-A968-FA4299D3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36F-F01F-4DC6-94A5-F9DC3BF4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08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32EE-45E5-448D-8100-8085BBEA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95C9C-549A-4140-B212-4F306F84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58BE-3416-48E9-8A0C-8C71CD2A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E706-3B30-4A16-BC8F-700A59C7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6050-4AE2-45F7-A107-8AAE6C38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5F47-4074-46BC-A1A4-D96430C8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064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592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EAE9-5CB9-470E-8441-EAC7CBF8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4D805-8397-4244-9FBF-B3847128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44DC8-A572-44FC-84BB-169FABBE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3D88-EF47-439F-91CD-04EF8D6B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6C8-5234-40E9-A275-C8E52D5C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47AC-EF86-4214-A020-F93612FD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853B-9A2E-4EDA-B892-403A0517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08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4D8C1-0C1B-4ABB-A756-AF19C8C6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B3E3-7692-45E2-8837-F279BB9F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F40E-8E91-49F8-87FC-1C852AFD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8A67-38EE-4FCF-AAE3-B46E0DA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9E93-CCC3-4843-B315-9257C4F0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96E82-C36A-4903-9F1D-F84CCFE8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064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592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87711-62B5-4121-AE3C-C2656425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E2D74-544F-405E-8EE3-3A9641E5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D22-95BD-46CE-B5D6-D84E3CFC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613D4-390F-48E4-AFDA-CA232923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F6A39-F451-4B2E-B68E-8865241C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98954-6EF1-47FD-8956-E44FE2FB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E1CEE-50E5-4DA6-BE26-FD973F8B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08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85B7A-5491-4288-A63B-A610424B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4F3C4-B022-442E-9245-7EF81D8E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7CF5E-A3E9-473B-B308-38D8903C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D4A57-CB19-4554-A03D-E768E7D7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E3350-807C-472C-9CDC-A56D647A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3393-3553-48DE-94B8-7F144073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08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18F-729E-4A94-9F58-EBFDFC92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064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6592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077DB-E264-4911-8210-E18E1C93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0E418-12CE-4EFB-A6DD-4F9197E9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66A1F-6C63-497D-B62C-46076271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CCE32-DFFA-4BFC-A74B-82406870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6AEF-FC66-4AD3-9CBD-5ABCBC7F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7092-9ECF-4A46-AAD1-818FDC70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08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2A874-D91E-4082-AA2D-441D61AE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F49F0-517E-4F63-A7C3-A3E9B4F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F1CEA-4EBB-4D68-A74A-FF12273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EBF78-DA72-4DD7-96FE-5BEB337A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5E3-D9E3-4D01-B8C8-C854994D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72F31-7A93-4088-9353-670E0AEF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3682-A21D-4031-8D6D-226327F5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064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6592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F9196-F71D-4CE3-B616-CB8E3DAB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D1659-79DD-4085-A987-4D440441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9A945-F213-4AF8-ADF8-421DF759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7EF09-CB63-483F-B3CF-9DBE4537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4154B-3FFA-4929-911E-61C666DC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21486-1B6B-499F-9433-F1A92BB3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08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7EA5B-5F8F-4CCA-83F2-432F83B8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FFDF6-E5A9-4CA8-88E1-1868E0F8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F53-1361-4C06-8508-DC78651B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7C70B-3F66-4963-B45D-9DF430B1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13142-EC5A-418A-A97A-8F317095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C5A33-05F6-4375-8C8F-5E38BCB4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F7274-BE67-4856-94C7-7919A9F9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064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6592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32B74-5B86-4125-B9BF-374A1F3D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7C28A-948F-4EDE-9752-63663964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4829E-E2AC-4879-AB27-D79BD140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7128C-B2B2-43F1-8122-E81B56CC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E377D-79A6-46D5-B6AC-1F8712E2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26BD9-E7E3-40EF-AFE1-F8A8134A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0D5-6253-4EC9-BF53-983FA132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08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046A3-4E76-4444-97F6-6C4E241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8CFEA-68A5-47C9-85E7-38EEB1EF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31901-7CA2-4B6A-B231-C7148FA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12B9E-0DC8-442B-9092-59627D44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08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B9D92-4B13-4998-AA83-8E4EAB27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40760" y="3964320"/>
            <a:ext cx="3947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5557D-2B0C-48BF-8CEE-7BF0A5BC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064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65920" y="3964320"/>
            <a:ext cx="260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475E-AC73-4E57-8348-70F41251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1"/>
          <p:cNvSpPr/>
          <p:nvPr/>
        </p:nvSpPr>
        <p:spPr>
          <a:xfrm>
            <a:off x="0" y="4751280"/>
            <a:ext cx="990612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igura a mano libera 15"/>
          <p:cNvSpPr/>
          <p:nvPr/>
        </p:nvSpPr>
        <p:spPr>
          <a:xfrm>
            <a:off x="7924680" y="0"/>
            <a:ext cx="198144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42096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420960"/>
            <a:ext cx="3136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832600" y="6420960"/>
            <a:ext cx="825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5FF4-35F8-4967-A5EC-7B702BEECD80}" type="slidenum">
              <a:rPr b="0" lang="it-IT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b4a"/>
            </a:gs>
            <a:gs pos="100000">
              <a:srgbClr val="838b9a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igura a mano libera 8"/>
          <p:cNvSpPr/>
          <p:nvPr/>
        </p:nvSpPr>
        <p:spPr>
          <a:xfrm>
            <a:off x="0" y="4751280"/>
            <a:ext cx="990612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igura a mano libera 10"/>
          <p:cNvSpPr/>
          <p:nvPr/>
        </p:nvSpPr>
        <p:spPr>
          <a:xfrm>
            <a:off x="6615000" y="0"/>
            <a:ext cx="329112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95360" y="642096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384360" y="6420960"/>
            <a:ext cx="3136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832600" y="6420960"/>
            <a:ext cx="825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E57-CEB5-45B1-A1A9-D0211ED4467B}" type="slidenum">
              <a:rPr b="0" lang="it-IT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b4a"/>
            </a:gs>
            <a:gs pos="100000">
              <a:srgbClr val="838b9a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igura a mano libera 8"/>
          <p:cNvSpPr/>
          <p:nvPr/>
        </p:nvSpPr>
        <p:spPr>
          <a:xfrm>
            <a:off x="0" y="4751280"/>
            <a:ext cx="990612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igura a mano libera 10"/>
          <p:cNvSpPr/>
          <p:nvPr/>
        </p:nvSpPr>
        <p:spPr>
          <a:xfrm>
            <a:off x="6615000" y="0"/>
            <a:ext cx="329112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95360" y="642096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84360" y="6420960"/>
            <a:ext cx="3136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832600" y="6420960"/>
            <a:ext cx="825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A629-696C-4F88-A644-D3E6E425E0CC}" type="slidenum">
              <a:rPr b="0" lang="it-IT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95360" y="642096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384360" y="6420960"/>
            <a:ext cx="3136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832600" y="6420960"/>
            <a:ext cx="825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808D-7BFA-4155-892E-837FC2473EAA}" type="slidenum">
              <a:rPr b="0" lang="it-IT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igura a mano libera 11"/>
          <p:cNvSpPr/>
          <p:nvPr/>
        </p:nvSpPr>
        <p:spPr>
          <a:xfrm>
            <a:off x="0" y="4751280"/>
            <a:ext cx="990612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igura a mano libera 15"/>
          <p:cNvSpPr/>
          <p:nvPr/>
        </p:nvSpPr>
        <p:spPr>
          <a:xfrm>
            <a:off x="7924680" y="0"/>
            <a:ext cx="198144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95360" y="642096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384360" y="6420960"/>
            <a:ext cx="3136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835840" y="6420960"/>
            <a:ext cx="825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7F32-E9D4-47E8-AC74-9481CD131EEA}" type="slidenum">
              <a:rPr b="0" lang="it-IT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95360" y="642096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384360" y="6420960"/>
            <a:ext cx="3136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832600" y="6420960"/>
            <a:ext cx="825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CA98-3CB5-4050-AA51-4024ABADBC37}" type="slidenum">
              <a:rPr b="0" lang="it-IT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igura a mano libera 11"/>
          <p:cNvSpPr/>
          <p:nvPr/>
        </p:nvSpPr>
        <p:spPr>
          <a:xfrm>
            <a:off x="0" y="4751280"/>
            <a:ext cx="990612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igura a mano libera 15"/>
          <p:cNvSpPr/>
          <p:nvPr/>
        </p:nvSpPr>
        <p:spPr>
          <a:xfrm>
            <a:off x="7924680" y="0"/>
            <a:ext cx="198144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E458-C64B-43DE-81A5-59A0BE7E6683}" type="slidenum">
              <a:rPr b="0" lang="it-IT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igura a mano libera 11"/>
          <p:cNvSpPr/>
          <p:nvPr/>
        </p:nvSpPr>
        <p:spPr>
          <a:xfrm>
            <a:off x="0" y="4751280"/>
            <a:ext cx="990612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igura a mano libera 15"/>
          <p:cNvSpPr/>
          <p:nvPr/>
        </p:nvSpPr>
        <p:spPr>
          <a:xfrm>
            <a:off x="7924680" y="0"/>
            <a:ext cx="198144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08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1C6F-C08A-4BF8-9E10-EAD25D115003}" type="slidenum">
              <a:rPr b="0" lang="it-IT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ondogiochi.it/" TargetMode="External"/><Relationship Id="rId2" Type="http://schemas.openxmlformats.org/officeDocument/2006/relationships/hyperlink" Target="http://www.mattel.com/" TargetMode="External"/><Relationship Id="rId3" Type="http://schemas.openxmlformats.org/officeDocument/2006/relationships/hyperlink" Target="http://www.giocolandia.it/" TargetMode="External"/><Relationship Id="rId4" Type="http://schemas.openxmlformats.org/officeDocument/2006/relationships/hyperlink" Target="http://www.giochipreziosi.it/" TargetMode="External"/><Relationship Id="rId5" Type="http://schemas.openxmlformats.org/officeDocument/2006/relationships/hyperlink" Target="http://www.toys.it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ttangolo 7"/>
          <p:cNvSpPr/>
          <p:nvPr/>
        </p:nvSpPr>
        <p:spPr>
          <a:xfrm>
            <a:off x="952560" y="2357280"/>
            <a:ext cx="8143920" cy="192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Immagine 4" descr="unicam.jpg"/>
          <p:cNvPicPr/>
          <p:nvPr/>
        </p:nvPicPr>
        <p:blipFill>
          <a:blip r:embed="rId1"/>
          <a:stretch/>
        </p:blipFill>
        <p:spPr>
          <a:xfrm>
            <a:off x="1166760" y="2500200"/>
            <a:ext cx="1332000" cy="1643040"/>
          </a:xfrm>
          <a:prstGeom prst="rect">
            <a:avLst/>
          </a:prstGeom>
          <a:ln w="0">
            <a:noFill/>
          </a:ln>
        </p:spPr>
      </p:pic>
      <p:sp>
        <p:nvSpPr>
          <p:cNvPr id="349" name="CasellaDiTesto 8"/>
          <p:cNvSpPr/>
          <p:nvPr/>
        </p:nvSpPr>
        <p:spPr>
          <a:xfrm>
            <a:off x="2738520" y="2428920"/>
            <a:ext cx="63579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Università di Camerino | Facoltà di Architettura | DI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Corso di Disegno Industriale Contemporaneo. (a.a.2007-0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Docente Giovanni Garroni | Collaboratore Valerio Tamburrini | Tutor Adamo Came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  <p:sndAc>
      <p:stSnd>
        <p:snd r:embed="rId2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0" y="1008000"/>
            <a:ext cx="9906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696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SimSun"/>
                <a:ea typeface="SimSun"/>
              </a:rPr>
              <a:t>Che funzione deve avere per te una palett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0" y="3643200"/>
            <a:ext cx="9906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dei fiori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35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piste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25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tagli perfetti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1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tante forme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3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441000"/>
            <a:ext cx="99061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696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SimSun"/>
                <a:ea typeface="SimSun"/>
              </a:rPr>
              <a:t>Ti piacerebbe costruire castelli di diverse dimensioni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3643200"/>
            <a:ext cx="990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65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35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1008000"/>
            <a:ext cx="9906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128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SimSun"/>
                <a:ea typeface="SimSun"/>
              </a:rPr>
              <a:t>Ti piacerebbe l’idea di un secchiello trasparente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2027160" y="3011400"/>
            <a:ext cx="833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spAutoFit/>
          </a:bodyPr>
          <a:p>
            <a:pPr indent="598320">
              <a:buClr>
                <a:srgbClr val="ffffff"/>
              </a:buClr>
              <a:buFont typeface="Courier New"/>
              <a:buChar char="o"/>
              <a:tabLst>
                <a:tab algn="l" pos="42696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3643200"/>
            <a:ext cx="990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9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1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-31680" y="441000"/>
            <a:ext cx="993780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696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SimSun"/>
                <a:ea typeface="SimSun"/>
              </a:rPr>
              <a:t>E l’idea di alzare o abbassare il secchiello secondo le tue esigenze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3645000"/>
            <a:ext cx="990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55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45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Jokerman"/>
              </a:rPr>
              <a:t>Come sono secchiello &amp; paletta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666720" y="836640"/>
            <a:ext cx="83199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SimSun"/>
              </a:rPr>
              <a:t>Esistono diversi tipi di secchielli e palette in commercio, con caratteristiche different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809640" y="2286000"/>
            <a:ext cx="650088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Quelli per maschi e quelli per femm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Entrambe hanno sempre colori </a:t>
            </a: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acce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Alcune palette hanno il manico in leg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Altre in plas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I secchielli vengono fabbric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esclusivamente in plas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senza spigoli viv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ttangolo 5"/>
          <p:cNvSpPr/>
          <p:nvPr/>
        </p:nvSpPr>
        <p:spPr>
          <a:xfrm>
            <a:off x="666720" y="550080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imSun"/>
                <a:ea typeface="SimSun"/>
              </a:rPr>
              <a:t>Sono comunque sempre in plastica morbida e flessibile, forme rotonde e senza bordi taglien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Immagine 6" descr="secchiello_mare.jpg"/>
          <p:cNvPicPr/>
          <p:nvPr/>
        </p:nvPicPr>
        <p:blipFill>
          <a:blip r:embed="rId1"/>
          <a:stretch/>
        </p:blipFill>
        <p:spPr>
          <a:xfrm>
            <a:off x="6802560" y="3638520"/>
            <a:ext cx="2012760" cy="179244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1424160" y="2997360"/>
            <a:ext cx="7343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Jokerman"/>
              </a:rPr>
              <a:t>Mercato di distribuzion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6"/>
          <p:cNvSpPr/>
          <p:nvPr/>
        </p:nvSpPr>
        <p:spPr>
          <a:xfrm>
            <a:off x="523800" y="642960"/>
            <a:ext cx="89280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SimSun"/>
                <a:ea typeface="SimSun"/>
              </a:rPr>
              <a:t>Non è stato possibile effettuare una ricerca di mercato sugli oggetti assegnatici, dato che in questo periodo dell’anno, le case produttrici non li commercializzano, e gli articoli rimanenti non risulterebbero attendib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237960" y="3571920"/>
            <a:ext cx="5070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imSun"/>
              </a:rPr>
              <a:t>È comunque possibile effettuare acquisti via internet, tramite alcuni siti co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2809800" y="5000760"/>
            <a:ext cx="2428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buClr>
                <a:srgbClr val="ffffff"/>
              </a:buClr>
              <a:buFont typeface="SimSu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r>
              <a:rPr b="0" lang="it-IT" sz="1400" spc="-1" strike="noStrike" u="sng">
                <a:solidFill>
                  <a:srgbClr val="7598d9"/>
                </a:solidFill>
                <a:uFillTx/>
                <a:latin typeface="SimSun"/>
                <a:ea typeface="SimSun"/>
                <a:hlinkClick r:id="rId1"/>
              </a:rPr>
              <a:t>www.mondogiochi.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SimSu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r>
              <a:rPr b="0" lang="it-IT" sz="1400" spc="-1" strike="noStrike" u="sng">
                <a:solidFill>
                  <a:srgbClr val="7598d9"/>
                </a:solidFill>
                <a:uFillTx/>
                <a:latin typeface="SimSun"/>
                <a:ea typeface="SimSun"/>
                <a:hlinkClick r:id="rId2"/>
              </a:rPr>
              <a:t>www.mattel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SimSu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r>
              <a:rPr b="0" lang="it-IT" sz="1400" spc="-1" strike="noStrike" u="sng">
                <a:solidFill>
                  <a:srgbClr val="7598d9"/>
                </a:solidFill>
                <a:uFillTx/>
                <a:latin typeface="SimSun"/>
                <a:ea typeface="SimSun"/>
                <a:hlinkClick r:id="rId3"/>
              </a:rPr>
              <a:t>www.giocolandia.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SimSu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r>
              <a:rPr b="0" lang="it-IT" sz="1400" spc="-1" strike="noStrike" u="sng">
                <a:solidFill>
                  <a:srgbClr val="7598d9"/>
                </a:solidFill>
                <a:uFillTx/>
                <a:latin typeface="SimSun"/>
                <a:ea typeface="SimSun"/>
                <a:hlinkClick r:id="rId4"/>
              </a:rPr>
              <a:t>www.giochipreziosi.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SimSu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r>
              <a:rPr b="0" lang="it-IT" sz="1400" spc="-1" strike="noStrike" u="sng">
                <a:solidFill>
                  <a:srgbClr val="7598d9"/>
                </a:solidFill>
                <a:uFillTx/>
                <a:latin typeface="SimSun"/>
                <a:ea typeface="SimSun"/>
                <a:hlinkClick r:id="rId5"/>
              </a:rPr>
              <a:t>www.toys.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Immagine 6" descr="Valigia-libri.jpg"/>
          <p:cNvPicPr/>
          <p:nvPr/>
        </p:nvPicPr>
        <p:blipFill>
          <a:blip r:embed="rId6"/>
          <a:stretch/>
        </p:blipFill>
        <p:spPr>
          <a:xfrm>
            <a:off x="5303880" y="2992320"/>
            <a:ext cx="4486320" cy="337212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8"/>
          <p:cNvSpPr/>
          <p:nvPr/>
        </p:nvSpPr>
        <p:spPr>
          <a:xfrm>
            <a:off x="0" y="2852640"/>
            <a:ext cx="990612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Jokerman"/>
              </a:rPr>
              <a:t>Come vorremmo un Secchiello e una Paletta …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Immagine 10" descr="secchio.jpg"/>
          <p:cNvPicPr/>
          <p:nvPr/>
        </p:nvPicPr>
        <p:blipFill>
          <a:blip r:embed="rId1"/>
          <a:stretch/>
        </p:blipFill>
        <p:spPr>
          <a:xfrm>
            <a:off x="1378080" y="993600"/>
            <a:ext cx="6759360" cy="50724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20"/>
          <p:cNvSpPr/>
          <p:nvPr/>
        </p:nvSpPr>
        <p:spPr>
          <a:xfrm>
            <a:off x="713520" y="500040"/>
            <a:ext cx="72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Un secchiello facile da trasport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1"/>
          <p:cNvSpPr/>
          <p:nvPr/>
        </p:nvSpPr>
        <p:spPr>
          <a:xfrm>
            <a:off x="5548320" y="1500120"/>
            <a:ext cx="43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Un secchiello componibile con basi intercambiabi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2"/>
          <p:cNvSpPr/>
          <p:nvPr/>
        </p:nvSpPr>
        <p:spPr>
          <a:xfrm>
            <a:off x="432360" y="5143680"/>
            <a:ext cx="336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Un secchie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per forme lib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21"/>
          <p:cNvSpPr/>
          <p:nvPr/>
        </p:nvSpPr>
        <p:spPr>
          <a:xfrm>
            <a:off x="380880" y="178596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Un secchiello per le m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5548320" y="521496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Un secchiello con il fondo traspar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380880" y="342900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imSun"/>
              </a:rPr>
              <a:t>Un secchiello in Tetrap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9"/>
          <p:cNvSpPr/>
          <p:nvPr/>
        </p:nvSpPr>
        <p:spPr>
          <a:xfrm>
            <a:off x="1809720" y="5229360"/>
            <a:ext cx="746460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4400" spc="-1" strike="noStrike">
                <a:solidFill>
                  <a:srgbClr val="ffffff"/>
                </a:solidFill>
                <a:latin typeface="Jokerman"/>
              </a:rPr>
              <a:t>SECCHIELLO  &amp; PALET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6" descr="libri-consigliati-vacanze-spiaggia-thumb"/>
          <p:cNvPicPr/>
          <p:nvPr/>
        </p:nvPicPr>
        <p:blipFill>
          <a:blip r:embed="rId1"/>
          <a:stretch/>
        </p:blipFill>
        <p:spPr>
          <a:xfrm>
            <a:off x="996840" y="836640"/>
            <a:ext cx="4638960" cy="380988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48"/>
          <p:cNvSpPr/>
          <p:nvPr/>
        </p:nvSpPr>
        <p:spPr>
          <a:xfrm>
            <a:off x="0" y="2852640"/>
            <a:ext cx="99061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600" spc="-1" strike="noStrike">
                <a:solidFill>
                  <a:srgbClr val="92d050"/>
                </a:solidFill>
                <a:latin typeface="Jokerman"/>
              </a:rPr>
              <a:t>Powered b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0" y="3714840"/>
            <a:ext cx="9906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Unicode MS"/>
              </a:rPr>
              <a:t>Claudia Bronzi – Margherita Clemente - Valentina Luciani – Alessandro Manni -  Elisa Merlini – Serena Vergar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7"/>
          <p:cNvSpPr/>
          <p:nvPr/>
        </p:nvSpPr>
        <p:spPr>
          <a:xfrm>
            <a:off x="704880" y="2492280"/>
            <a:ext cx="84247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Jokerman"/>
              </a:rPr>
              <a:t>Breve sondaggio sul Secchiello e la Palett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0" y="1419480"/>
            <a:ext cx="99061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marL="627120" indent="-627120" algn="ctr">
              <a:lnSpc>
                <a:spcPct val="100000"/>
              </a:lnSpc>
              <a:tabLst>
                <a:tab algn="l" pos="0"/>
                <a:tab algn="l" pos="51264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SimSun"/>
                <a:ea typeface="SimSun"/>
              </a:rPr>
              <a:t>Vai spesso al mare a giocare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0" y="3643200"/>
            <a:ext cx="990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95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 5%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0" y="1004040"/>
            <a:ext cx="99061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264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SimSun"/>
                <a:ea typeface="SimSun"/>
              </a:rPr>
              <a:t>Con cosa giochi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0" y="3643200"/>
            <a:ext cx="9906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Secchiello e Paletta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  <a:ea typeface="Arial"/>
              </a:rPr>
              <a:t>(6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Biglie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  <a:ea typeface="Arial"/>
              </a:rPr>
              <a:t>(25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Pesca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  <a:ea typeface="Arial"/>
              </a:rPr>
              <a:t>(1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Palla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  <a:ea typeface="Arial"/>
              </a:rPr>
              <a:t>(15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1008000"/>
            <a:ext cx="9906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128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SimSun"/>
                <a:ea typeface="SimSun"/>
              </a:rPr>
              <a:t>Come dovrebbe essere per te un secchiell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0" y="3643200"/>
            <a:ext cx="9906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ello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1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lorato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6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o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3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1008000"/>
            <a:ext cx="98647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128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SimSun"/>
                <a:ea typeface="SimSun"/>
              </a:rPr>
              <a:t>Che cosa ci fai con un secchiell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0" y="3643200"/>
            <a:ext cx="9906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astelli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5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iochi con sabbia e acqua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3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atturo i pesci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2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0" y="1004040"/>
            <a:ext cx="99061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128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SimSun"/>
                <a:ea typeface="SimSun"/>
              </a:rPr>
              <a:t>E con una palett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3643200"/>
            <a:ext cx="9906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avo nella sabbia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45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icchio un amico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3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ccio i castelli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25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441000"/>
            <a:ext cx="99061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696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SimSun"/>
                <a:ea typeface="SimSun"/>
              </a:rPr>
              <a:t>Riesci a prendere e a trasportare con facilità il tuo secchiell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3643200"/>
            <a:ext cx="990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3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acc1e8"/>
                </a:solidFill>
                <a:latin typeface="Arial"/>
              </a:rPr>
              <a:t>(70%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9:54:24Z</dcterms:created>
  <dc:creator>Utente</dc:creator>
  <dc:description/>
  <dc:language>en-US</dc:language>
  <cp:lastModifiedBy> </cp:lastModifiedBy>
  <dcterms:modified xsi:type="dcterms:W3CDTF">2007-12-13T10:58:54Z</dcterms:modified>
  <cp:revision>49</cp:revision>
  <dc:subject/>
  <dc:title>Diapositiva 3</dc:title>
</cp:coreProperties>
</file>