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6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27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4.png" ContentType="image/png"/>
  <Override PartName="/ppt/media/image9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538A-3967-471D-8C58-8372E254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589-3C66-4DB6-9C53-64ECE373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6DF7-601A-4CD4-A7BA-669D799E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348-ABE9-4EFE-9BB8-976DB8C1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C3D-8113-425E-A858-3327D3E2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DC6-15E1-40DC-9429-A50BDBA6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E7EF-8383-4A55-9AC9-6119AE22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196-5742-4E3E-B4C9-9013F9BC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2CD-C276-40C6-8ED8-AA2A88EE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580-9C5E-408F-8140-BF51B989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B303-73B3-4709-86BD-185ED5E9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39B2-737F-4FA5-B592-6C744695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205A-6F4B-4BAC-8409-77DA8DCA402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ixmania.com/it/it/627902/art/babyliss/asciugacapelli-lisciatore.html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pixmania.com/it/it/240365/art/babyliss/asciugacapelli-profession.html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pixmania.com/it/it/240365/art/babyliss/asciugacapelli-profession.html" TargetMode="External"/><Relationship Id="rId6" Type="http://schemas.openxmlformats.org/officeDocument/2006/relationships/hyperlink" Target="http://www.pixmania.com/it/it/517393/art/rowenta/asciugacapelli-cv4010.html" TargetMode="External"/><Relationship Id="rId7" Type="http://schemas.openxmlformats.org/officeDocument/2006/relationships/image" Target="../media/image22.jpeg"/><Relationship Id="rId8" Type="http://schemas.openxmlformats.org/officeDocument/2006/relationships/hyperlink" Target="http://www.pixmania.com/it/it/517393/art/rowenta/asciugacapelli-cv4010.html" TargetMode="External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tango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magine 3" descr="phon.bmp"/>
          <p:cNvPicPr/>
          <p:nvPr/>
        </p:nvPicPr>
        <p:blipFill>
          <a:blip r:embed="rId1"/>
          <a:stretch/>
        </p:blipFill>
        <p:spPr>
          <a:xfrm>
            <a:off x="2500200" y="214200"/>
            <a:ext cx="4407120" cy="6357960"/>
          </a:xfrm>
          <a:prstGeom prst="rect">
            <a:avLst/>
          </a:prstGeom>
          <a:ln w="0">
            <a:noFill/>
          </a:ln>
        </p:spPr>
      </p:pic>
      <p:pic>
        <p:nvPicPr>
          <p:cNvPr id="43" name="CasellaDiTesto 5" descr=""/>
          <p:cNvPicPr/>
          <p:nvPr/>
        </p:nvPicPr>
        <p:blipFill>
          <a:blip r:embed="rId2"/>
          <a:stretch/>
        </p:blipFill>
        <p:spPr>
          <a:xfrm>
            <a:off x="201600" y="1878120"/>
            <a:ext cx="8948880" cy="1212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7066080" y="133200"/>
            <a:ext cx="1676160" cy="1671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7139160" y="1920960"/>
            <a:ext cx="1639800" cy="1657440"/>
          </a:xfrm>
          <a:prstGeom prst="rect">
            <a:avLst/>
          </a:prstGeom>
          <a:ln w="0">
            <a:noFill/>
          </a:ln>
        </p:spPr>
      </p:pic>
      <p:grpSp>
        <p:nvGrpSpPr>
          <p:cNvPr id="46" name="Gruppo 29"/>
          <p:cNvGrpSpPr/>
          <p:nvPr/>
        </p:nvGrpSpPr>
        <p:grpSpPr>
          <a:xfrm>
            <a:off x="0" y="0"/>
            <a:ext cx="7143840" cy="5159160"/>
            <a:chOff x="0" y="0"/>
            <a:chExt cx="7143840" cy="5159160"/>
          </a:xfrm>
        </p:grpSpPr>
        <p:sp>
          <p:nvSpPr>
            <p:cNvPr id="47" name="Rettangolo 6"/>
            <p:cNvSpPr/>
            <p:nvPr/>
          </p:nvSpPr>
          <p:spPr>
            <a:xfrm>
              <a:off x="2714760" y="2714760"/>
              <a:ext cx="92844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" name="Gruppo 13"/>
            <p:cNvGrpSpPr/>
            <p:nvPr/>
          </p:nvGrpSpPr>
          <p:grpSpPr>
            <a:xfrm>
              <a:off x="714240" y="0"/>
              <a:ext cx="5643720" cy="4500720"/>
              <a:chOff x="714240" y="0"/>
              <a:chExt cx="5643720" cy="4500720"/>
            </a:xfrm>
          </p:grpSpPr>
          <p:grpSp>
            <p:nvGrpSpPr>
              <p:cNvPr id="49" name="Gruppo 8"/>
              <p:cNvGrpSpPr/>
              <p:nvPr/>
            </p:nvGrpSpPr>
            <p:grpSpPr>
              <a:xfrm>
                <a:off x="714240" y="0"/>
                <a:ext cx="5643720" cy="4215240"/>
                <a:chOff x="714240" y="0"/>
                <a:chExt cx="5643720" cy="4215240"/>
              </a:xfrm>
            </p:grpSpPr>
            <p:pic>
              <p:nvPicPr>
                <p:cNvPr id="50" name="Picture 2" descr=""/>
                <p:cNvPicPr/>
                <p:nvPr/>
              </p:nvPicPr>
              <p:blipFill>
                <a:blip r:embed="rId3"/>
                <a:srcRect l="0" t="0" r="0" b="4080"/>
                <a:stretch/>
              </p:blipFill>
              <p:spPr>
                <a:xfrm>
                  <a:off x="1285560" y="0"/>
                  <a:ext cx="4374360" cy="4215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" name="Rettangolo 4"/>
                <p:cNvSpPr/>
                <p:nvPr/>
              </p:nvSpPr>
              <p:spPr>
                <a:xfrm>
                  <a:off x="4929120" y="1357560"/>
                  <a:ext cx="1428840" cy="642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800" spc="-1" strike="noStrike">
                      <a:solidFill>
                        <a:srgbClr val="000000"/>
                      </a:solidFill>
                      <a:latin typeface="BankGothic Lt BT"/>
                    </a:rPr>
                    <a:t>Elementi riscaldati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" name="Rettangolo 5"/>
                <p:cNvSpPr/>
                <p:nvPr/>
              </p:nvSpPr>
              <p:spPr>
                <a:xfrm>
                  <a:off x="4714920" y="2286360"/>
                  <a:ext cx="1214280" cy="428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800" spc="-1" strike="noStrike">
                      <a:solidFill>
                        <a:srgbClr val="000000"/>
                      </a:solidFill>
                      <a:latin typeface="BankGothic Lt BT"/>
                    </a:rPr>
                    <a:t>ventola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" name="Rettangolo 7"/>
                <p:cNvSpPr/>
                <p:nvPr/>
              </p:nvSpPr>
              <p:spPr>
                <a:xfrm>
                  <a:off x="714240" y="714240"/>
                  <a:ext cx="1714320" cy="428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800" spc="-1" strike="noStrike">
                      <a:solidFill>
                        <a:srgbClr val="000000"/>
                      </a:solidFill>
                      <a:latin typeface="BankGothic Lt BT"/>
                    </a:rPr>
                    <a:t>Moto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800" spc="-1" strike="noStrike">
                      <a:solidFill>
                        <a:srgbClr val="000000"/>
                      </a:solidFill>
                      <a:latin typeface="BankGothic Lt BT"/>
                    </a:rPr>
                    <a:t>elettrico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" name="Rettangolo 11"/>
              <p:cNvSpPr/>
              <p:nvPr/>
            </p:nvSpPr>
            <p:spPr>
              <a:xfrm>
                <a:off x="1714320" y="4215240"/>
                <a:ext cx="1928880" cy="28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BankGothic Lt BT"/>
                  </a:rPr>
                  <a:t>Cavo alimentazion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" name="CasellaDiTesto 14"/>
            <p:cNvSpPr/>
            <p:nvPr/>
          </p:nvSpPr>
          <p:spPr>
            <a:xfrm>
              <a:off x="357120" y="1214280"/>
              <a:ext cx="1785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BankGothic Lt BT"/>
                </a:rPr>
                <a:t>(Sono Piccoli e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BankGothic Lt BT"/>
                </a:rPr>
                <a:t>utilizzano magneti, particolari ceramici per ottenere elevate potenze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Connettore 1 16"/>
            <p:cNvSpPr/>
            <p:nvPr/>
          </p:nvSpPr>
          <p:spPr>
            <a:xfrm>
              <a:off x="2500200" y="3071880"/>
              <a:ext cx="250020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ttangolo 17"/>
            <p:cNvSpPr/>
            <p:nvPr/>
          </p:nvSpPr>
          <p:spPr>
            <a:xfrm>
              <a:off x="4857840" y="3286440"/>
              <a:ext cx="121428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BankGothic Lt BT"/>
                </a:rPr>
                <a:t>Doppia Scocc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CasellaDiTesto 18"/>
            <p:cNvSpPr/>
            <p:nvPr/>
          </p:nvSpPr>
          <p:spPr>
            <a:xfrm>
              <a:off x="4929120" y="3786480"/>
              <a:ext cx="1857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BankGothic Lt BT"/>
                </a:rPr>
                <a:t>( in polimero con bassa conducibilità termica, stampata in due parti, con unico elemento di chiusura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ttangolo 20"/>
            <p:cNvSpPr/>
            <p:nvPr/>
          </p:nvSpPr>
          <p:spPr>
            <a:xfrm>
              <a:off x="0" y="3214800"/>
              <a:ext cx="157140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BankGothic Lt BT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CasellaDiTesto 21"/>
            <p:cNvSpPr/>
            <p:nvPr/>
          </p:nvSpPr>
          <p:spPr>
            <a:xfrm>
              <a:off x="0" y="3572280"/>
              <a:ext cx="1857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BankGothic Lt BT"/>
                </a:rPr>
                <a:t>(attraente, leggero, maneggevole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Connettore 1 22"/>
            <p:cNvSpPr/>
            <p:nvPr/>
          </p:nvSpPr>
          <p:spPr>
            <a:xfrm flipH="1">
              <a:off x="1357200" y="3142800"/>
              <a:ext cx="64296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Connettore 1 25"/>
            <p:cNvSpPr/>
            <p:nvPr/>
          </p:nvSpPr>
          <p:spPr>
            <a:xfrm>
              <a:off x="1857240" y="3941640"/>
              <a:ext cx="428400" cy="27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CasellaDiTesto 28"/>
            <p:cNvSpPr/>
            <p:nvPr/>
          </p:nvSpPr>
          <p:spPr>
            <a:xfrm>
              <a:off x="4786560" y="2643480"/>
              <a:ext cx="2357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BankGothic Lt BT"/>
                </a:rPr>
                <a:t>( alte velocità di espulsione dell’aria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Rettangolo 30"/>
          <p:cNvSpPr/>
          <p:nvPr/>
        </p:nvSpPr>
        <p:spPr>
          <a:xfrm>
            <a:off x="7286760" y="3714840"/>
            <a:ext cx="142848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ankGothic Lt BT"/>
              </a:rPr>
              <a:t>Agli iniz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asellaDiTesto 31"/>
          <p:cNvSpPr/>
          <p:nvPr/>
        </p:nvSpPr>
        <p:spPr>
          <a:xfrm>
            <a:off x="7286760" y="4071960"/>
            <a:ext cx="1571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ankGothic Lt BT"/>
              </a:rPr>
              <a:t>materiale pressufus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ankGothic Lt BT"/>
              </a:rPr>
              <a:t>Max 1000W potenz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ankGothic Lt BT"/>
              </a:rPr>
              <a:t>Basse velocità nventilazi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onnettore 1 24"/>
          <p:cNvSpPr/>
          <p:nvPr/>
        </p:nvSpPr>
        <p:spPr>
          <a:xfrm flipH="1">
            <a:off x="6858000" y="3430440"/>
            <a:ext cx="1440" cy="292896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nettore 1 27"/>
          <p:cNvSpPr/>
          <p:nvPr/>
        </p:nvSpPr>
        <p:spPr>
          <a:xfrm>
            <a:off x="6429240" y="3714840"/>
            <a:ext cx="2357640" cy="144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ttangolo 32"/>
          <p:cNvSpPr/>
          <p:nvPr/>
        </p:nvSpPr>
        <p:spPr>
          <a:xfrm>
            <a:off x="1857240" y="3857760"/>
            <a:ext cx="85752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ZXA1002"/>
          <p:cNvPicPr/>
          <p:nvPr/>
        </p:nvPicPr>
        <p:blipFill>
          <a:blip r:embed="rId1"/>
          <a:stretch/>
        </p:blipFill>
        <p:spPr>
          <a:xfrm>
            <a:off x="1143000" y="380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2"/>
          <p:cNvPicPr/>
          <p:nvPr/>
        </p:nvPicPr>
        <p:blipFill>
          <a:blip r:embed="rId2"/>
          <a:stretch/>
        </p:blipFill>
        <p:spPr>
          <a:xfrm>
            <a:off x="6172200" y="685800"/>
            <a:ext cx="2166840" cy="2743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32"/>
          <p:cNvPicPr/>
          <p:nvPr/>
        </p:nvPicPr>
        <p:blipFill>
          <a:blip r:embed="rId3"/>
          <a:stretch/>
        </p:blipFill>
        <p:spPr>
          <a:xfrm>
            <a:off x="4572000" y="762120"/>
            <a:ext cx="1428840" cy="1990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453_schema_tecnico"/>
          <p:cNvPicPr/>
          <p:nvPr/>
        </p:nvPicPr>
        <p:blipFill>
          <a:blip r:embed="rId4"/>
          <a:stretch/>
        </p:blipFill>
        <p:spPr>
          <a:xfrm>
            <a:off x="5715000" y="3581280"/>
            <a:ext cx="2166840" cy="2743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000000003950"/>
          <p:cNvPicPr/>
          <p:nvPr/>
        </p:nvPicPr>
        <p:blipFill>
          <a:blip r:embed="rId5"/>
          <a:stretch/>
        </p:blipFill>
        <p:spPr>
          <a:xfrm>
            <a:off x="838080" y="3336840"/>
            <a:ext cx="3029040" cy="2826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5"/>
          <p:cNvSpPr/>
          <p:nvPr/>
        </p:nvSpPr>
        <p:spPr>
          <a:xfrm>
            <a:off x="4419720" y="304920"/>
            <a:ext cx="434340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762120" y="304920"/>
            <a:ext cx="327636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762120" y="3352680"/>
            <a:ext cx="327636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4572000" y="5486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Asciugacapelli par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457200" y="54864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Asciugacapelli con diffuso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609480" y="22860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Asciugacapelli con beccucc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73"/>
          <p:cNvPicPr/>
          <p:nvPr/>
        </p:nvPicPr>
        <p:blipFill>
          <a:blip r:embed="rId1"/>
          <a:stretch/>
        </p:blipFill>
        <p:spPr>
          <a:xfrm>
            <a:off x="457200" y="1828800"/>
            <a:ext cx="3925800" cy="4089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asciugacapelli-nellusco-vaccari"/>
          <p:cNvPicPr/>
          <p:nvPr/>
        </p:nvPicPr>
        <p:blipFill>
          <a:blip r:embed="rId2"/>
          <a:stretch/>
        </p:blipFill>
        <p:spPr>
          <a:xfrm>
            <a:off x="4724280" y="609480"/>
            <a:ext cx="4038840" cy="2835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4800600" y="304920"/>
            <a:ext cx="396252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380880" y="304920"/>
            <a:ext cx="403884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105520" y="41148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Asciugacapelli varie impugnatu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914400" y="9144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Asciugacapelli salva spaz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PER ALBERGHI"/>
          <p:cNvPicPr/>
          <p:nvPr/>
        </p:nvPicPr>
        <p:blipFill>
          <a:blip r:embed="rId1"/>
          <a:stretch/>
        </p:blipFill>
        <p:spPr>
          <a:xfrm>
            <a:off x="304920" y="380880"/>
            <a:ext cx="2166840" cy="2743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phontransformers"/>
          <p:cNvPicPr/>
          <p:nvPr/>
        </p:nvPicPr>
        <p:blipFill>
          <a:blip r:embed="rId2"/>
          <a:stretch/>
        </p:blipFill>
        <p:spPr>
          <a:xfrm>
            <a:off x="4952880" y="2743200"/>
            <a:ext cx="3598920" cy="3657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SenzK"/>
          <p:cNvPicPr/>
          <p:nvPr/>
        </p:nvPicPr>
        <p:blipFill>
          <a:blip r:embed="rId3"/>
          <a:stretch/>
        </p:blipFill>
        <p:spPr>
          <a:xfrm>
            <a:off x="4572000" y="380880"/>
            <a:ext cx="1566720" cy="2028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venta-544368547"/>
          <p:cNvPicPr/>
          <p:nvPr/>
        </p:nvPicPr>
        <p:blipFill>
          <a:blip r:embed="rId4"/>
          <a:stretch/>
        </p:blipFill>
        <p:spPr>
          <a:xfrm>
            <a:off x="2209680" y="3886200"/>
            <a:ext cx="1675080" cy="19605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4419720" y="304920"/>
            <a:ext cx="4343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457200" y="304920"/>
            <a:ext cx="36576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380880" y="365760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4419720" y="2666880"/>
            <a:ext cx="426708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4495680" y="57913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Asciugacapelli per gioco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609480" y="58672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Asciugacapelli mani lib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6172200" y="13716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Asciugacapelli da viaggi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1523880" y="30481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Asciugacapelli par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an5858it50665"/>
          <p:cNvPicPr/>
          <p:nvPr/>
        </p:nvPicPr>
        <p:blipFill>
          <a:blip r:embed="rId1"/>
          <a:stretch/>
        </p:blipFill>
        <p:spPr>
          <a:xfrm>
            <a:off x="380880" y="304920"/>
            <a:ext cx="2925720" cy="2925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pan5858it54752"/>
          <p:cNvPicPr/>
          <p:nvPr/>
        </p:nvPicPr>
        <p:blipFill>
          <a:blip r:embed="rId2"/>
          <a:stretch/>
        </p:blipFill>
        <p:spPr>
          <a:xfrm>
            <a:off x="3200400" y="3505320"/>
            <a:ext cx="2692440" cy="2692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pan11917it1584"/>
          <p:cNvPicPr/>
          <p:nvPr/>
        </p:nvPicPr>
        <p:blipFill>
          <a:blip r:embed="rId3"/>
          <a:stretch/>
        </p:blipFill>
        <p:spPr>
          <a:xfrm>
            <a:off x="6400800" y="380880"/>
            <a:ext cx="240048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457200" y="228600"/>
            <a:ext cx="26668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352680" y="228600"/>
            <a:ext cx="26672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6248520" y="228600"/>
            <a:ext cx="26668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429000" y="99072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Asciugacapelli con manico ergonomic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400800" y="50292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Asciugacapelli spazzol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09480" y="4419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Asciugacapelli min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magine 1" descr="BABYLISS Asciugacapelli lisciatore BE Liss 5720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025640"/>
            <a:ext cx="1828800" cy="16272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380880" y="247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50,99 €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Immagine 3" descr="BABYLISS Asciugacapelli professionale BEliss 5710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3435480"/>
            <a:ext cx="1828800" cy="1627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2362320" y="3664080"/>
            <a:ext cx="236196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00ff"/>
                </a:solidFill>
                <a:uFillTx/>
                <a:latin typeface="Century Gothic"/>
                <a:hlinkClick r:id="rId5"/>
              </a:rPr>
              <a:t>BABYLISS Asciugacapelli professionale BEliss 5710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entury Gothic"/>
              </a:rPr>
              <a:t>L'asciugacapelli BEliss 5710E di Babyliss permette di eliminare l'elettricità statica durante l'asciugatur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Immagine 5" descr="ROWENTA Asciugacapelli CV401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1101600"/>
            <a:ext cx="1905120" cy="16956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609480" y="5035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39,95 €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6400800" y="1101600"/>
            <a:ext cx="251460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00ff"/>
                </a:solidFill>
                <a:uFillTx/>
                <a:latin typeface="Century Gothic"/>
                <a:hlinkClick r:id="rId8"/>
              </a:rPr>
              <a:t>ROWENTA Asciugacapelli CV4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entury Gothic"/>
              </a:rPr>
              <a:t>L'asciugacapelli CV4010 di Rowenta permette di asciugare rapidamente i capelli e offe una messa in piega impeccabi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209680" y="949320"/>
            <a:ext cx="2514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BABYLISS Asciugacapelli lisciatore BE Liss 5720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entury Gothic"/>
              </a:rPr>
              <a:t>Lisciatore e asciugacapelli tutto-in-uno, BE Liss 5720E di Babyliss assicura una stiratura rapida in un solo passaggi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5715000" y="2473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10 €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magine 7" descr="PHILIPS Asciugacapelli Salon Dry Control Control HP4980/29"/>
          <p:cNvPicPr/>
          <p:nvPr/>
        </p:nvPicPr>
        <p:blipFill>
          <a:blip r:embed="rId9"/>
          <a:stretch/>
        </p:blipFill>
        <p:spPr>
          <a:xfrm>
            <a:off x="4952880" y="3740040"/>
            <a:ext cx="1524240" cy="13557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6"/>
          <p:cNvSpPr/>
          <p:nvPr/>
        </p:nvSpPr>
        <p:spPr>
          <a:xfrm>
            <a:off x="6477120" y="3816360"/>
            <a:ext cx="23619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PHILIPS Asciugacapelli Salon Dry Control Control HP4980/2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entury Gothic"/>
              </a:rPr>
              <a:t>Dry Control Control HP4980/29 è un asciugacapelli completo che permette di modellare, volumizzare e perfezionare l'acconciatur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5181480" y="534024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20 €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magine 4" descr="sportivo-thumb.jpg"/>
          <p:cNvPicPr/>
          <p:nvPr/>
        </p:nvPicPr>
        <p:blipFill>
          <a:blip r:embed="rId1"/>
          <a:stretch/>
        </p:blipFill>
        <p:spPr>
          <a:xfrm>
            <a:off x="133200" y="2992320"/>
            <a:ext cx="1195560" cy="873360"/>
          </a:xfrm>
          <a:prstGeom prst="rect">
            <a:avLst/>
          </a:prstGeom>
          <a:ln w="0">
            <a:noFill/>
          </a:ln>
        </p:spPr>
      </p:pic>
      <p:pic>
        <p:nvPicPr>
          <p:cNvPr id="120" name="Diagramma 19" descr=""/>
          <p:cNvPicPr/>
          <p:nvPr/>
        </p:nvPicPr>
        <p:blipFill>
          <a:blip r:embed="rId2"/>
          <a:stretch/>
        </p:blipFill>
        <p:spPr>
          <a:xfrm>
            <a:off x="1163520" y="-19080"/>
            <a:ext cx="7212240" cy="5743440"/>
          </a:xfrm>
          <a:prstGeom prst="rect">
            <a:avLst/>
          </a:prstGeom>
          <a:ln w="0">
            <a:noFill/>
          </a:ln>
        </p:spPr>
      </p:pic>
      <p:pic>
        <p:nvPicPr>
          <p:cNvPr id="121" name="Immagine 2" descr="venta-544368547.jpg"/>
          <p:cNvPicPr/>
          <p:nvPr/>
        </p:nvPicPr>
        <p:blipFill>
          <a:blip r:embed="rId3"/>
          <a:stretch/>
        </p:blipFill>
        <p:spPr>
          <a:xfrm>
            <a:off x="133200" y="208080"/>
            <a:ext cx="1036800" cy="1212840"/>
          </a:xfrm>
          <a:prstGeom prst="rect">
            <a:avLst/>
          </a:prstGeom>
          <a:ln w="0">
            <a:noFill/>
          </a:ln>
        </p:spPr>
      </p:pic>
      <p:pic>
        <p:nvPicPr>
          <p:cNvPr id="122" name="Immagine 3" descr="sportivo2-thumb.jpg"/>
          <p:cNvPicPr/>
          <p:nvPr/>
        </p:nvPicPr>
        <p:blipFill>
          <a:blip r:embed="rId4"/>
          <a:stretch/>
        </p:blipFill>
        <p:spPr>
          <a:xfrm>
            <a:off x="133200" y="1566720"/>
            <a:ext cx="1231920" cy="1249560"/>
          </a:xfrm>
          <a:prstGeom prst="rect">
            <a:avLst/>
          </a:prstGeom>
          <a:ln w="0">
            <a:noFill/>
          </a:ln>
        </p:spPr>
      </p:pic>
      <p:pic>
        <p:nvPicPr>
          <p:cNvPr id="123" name="Immagine 5" descr="ZXA1002.gif"/>
          <p:cNvPicPr/>
          <p:nvPr/>
        </p:nvPicPr>
        <p:blipFill>
          <a:blip r:embed="rId5"/>
          <a:srcRect l="12504" t="0" r="14583" b="2772"/>
          <a:stretch/>
        </p:blipFill>
        <p:spPr>
          <a:xfrm>
            <a:off x="214200" y="40719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24" name="Immagine 6" descr="29.jpg"/>
          <p:cNvPicPr/>
          <p:nvPr/>
        </p:nvPicPr>
        <p:blipFill>
          <a:blip r:embed="rId6"/>
          <a:srcRect l="3652" t="4721" r="6723" b="3829"/>
          <a:stretch/>
        </p:blipFill>
        <p:spPr>
          <a:xfrm>
            <a:off x="7929720" y="428760"/>
            <a:ext cx="998280" cy="887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7"/>
          <a:stretch/>
        </p:blipFill>
        <p:spPr>
          <a:xfrm>
            <a:off x="7851600" y="3565440"/>
            <a:ext cx="1133640" cy="1146240"/>
          </a:xfrm>
          <a:prstGeom prst="rect">
            <a:avLst/>
          </a:prstGeom>
          <a:ln w="0">
            <a:noFill/>
          </a:ln>
        </p:spPr>
      </p:pic>
      <p:pic>
        <p:nvPicPr>
          <p:cNvPr id="126" name="Immagine 8" descr="asciugacapelli-nellusco-vaccari.jpg"/>
          <p:cNvPicPr/>
          <p:nvPr/>
        </p:nvPicPr>
        <p:blipFill>
          <a:blip r:embed="rId8"/>
          <a:stretch/>
        </p:blipFill>
        <p:spPr>
          <a:xfrm>
            <a:off x="7577280" y="1352520"/>
            <a:ext cx="1573200" cy="1109520"/>
          </a:xfrm>
          <a:prstGeom prst="rect">
            <a:avLst/>
          </a:prstGeom>
          <a:ln w="0">
            <a:noFill/>
          </a:ln>
        </p:spPr>
      </p:pic>
      <p:pic>
        <p:nvPicPr>
          <p:cNvPr id="127" name="Immagine 9" descr="PER ALBERGHI.jpg"/>
          <p:cNvPicPr/>
          <p:nvPr/>
        </p:nvPicPr>
        <p:blipFill>
          <a:blip r:embed="rId9"/>
          <a:srcRect l="18850" t="0" r="16235" b="0"/>
          <a:stretch/>
        </p:blipFill>
        <p:spPr>
          <a:xfrm>
            <a:off x="8072280" y="4857840"/>
            <a:ext cx="857520" cy="1671480"/>
          </a:xfrm>
          <a:prstGeom prst="rect">
            <a:avLst/>
          </a:prstGeom>
          <a:ln w="0">
            <a:noFill/>
          </a:ln>
        </p:spPr>
      </p:pic>
      <p:pic>
        <p:nvPicPr>
          <p:cNvPr id="128" name="Immagine 10" descr="SenzK.bmp"/>
          <p:cNvPicPr/>
          <p:nvPr/>
        </p:nvPicPr>
        <p:blipFill>
          <a:blip r:embed="rId10"/>
          <a:stretch/>
        </p:blipFill>
        <p:spPr>
          <a:xfrm>
            <a:off x="208080" y="5138640"/>
            <a:ext cx="1114200" cy="1433520"/>
          </a:xfrm>
          <a:prstGeom prst="rect">
            <a:avLst/>
          </a:prstGeom>
          <a:ln w="0">
            <a:noFill/>
          </a:ln>
        </p:spPr>
      </p:pic>
      <p:pic>
        <p:nvPicPr>
          <p:cNvPr id="129" name="Immagine 11" descr="73.jpg"/>
          <p:cNvPicPr/>
          <p:nvPr/>
        </p:nvPicPr>
        <p:blipFill>
          <a:blip r:embed="rId11"/>
          <a:stretch/>
        </p:blipFill>
        <p:spPr>
          <a:xfrm>
            <a:off x="4143240" y="5484960"/>
            <a:ext cx="1317600" cy="137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0:33:41Z</dcterms:created>
  <dc:creator> </dc:creator>
  <dc:description/>
  <dc:language>en-US</dc:language>
  <cp:lastModifiedBy> </cp:lastModifiedBy>
  <dcterms:modified xsi:type="dcterms:W3CDTF">2007-12-13T14:38:20Z</dcterms:modified>
  <cp:revision>102</cp:revision>
  <dc:subject/>
  <dc:title>Diapositiva 1</dc:title>
</cp:coreProperties>
</file>