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7F1-88EA-4DFA-B671-FE1A65AB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A13-38B4-47CB-9229-779F8194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25F-96A2-45BF-8601-375F343F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8C3-1060-46E9-A18B-62689F38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A5B-641E-43FD-A307-770AC510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D69-5ABA-48E7-A742-3B66692A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C89-878B-4044-B530-A6F4F450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6F4-DDBA-47B1-9B15-95B875A3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21F-32E9-4F2D-9AA0-EB87D39F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6A3-10CD-4EC0-B739-BCF80913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417-5156-4AFA-BFD9-EF7D232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F5D-4B07-4674-9C13-45DC6845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A00A-CD49-4625-8A1A-58095E38397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gnaposto contenuto 3" descr="Immagine1.png"/>
          <p:cNvPicPr/>
          <p:nvPr/>
        </p:nvPicPr>
        <p:blipFill>
          <a:blip r:embed="rId1"/>
          <a:stretch/>
        </p:blipFill>
        <p:spPr>
          <a:xfrm>
            <a:off x="-6480" y="208080"/>
            <a:ext cx="9918720" cy="6473880"/>
          </a:xfrm>
          <a:prstGeom prst="rect">
            <a:avLst/>
          </a:prstGeom>
          <a:ln w="0">
            <a:noFill/>
          </a:ln>
        </p:spPr>
      </p:pic>
      <p:sp>
        <p:nvSpPr>
          <p:cNvPr id="42" name="CasellaDiTesto 4"/>
          <p:cNvSpPr/>
          <p:nvPr/>
        </p:nvSpPr>
        <p:spPr>
          <a:xfrm>
            <a:off x="5340240" y="3571920"/>
            <a:ext cx="13924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asellaDiTesto 6"/>
          <p:cNvSpPr/>
          <p:nvPr/>
        </p:nvSpPr>
        <p:spPr>
          <a:xfrm>
            <a:off x="3637080" y="3429000"/>
            <a:ext cx="51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Baulet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portapacch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asellaDiTesto 7"/>
          <p:cNvSpPr/>
          <p:nvPr/>
        </p:nvSpPr>
        <p:spPr>
          <a:xfrm>
            <a:off x="3327480" y="4786200"/>
            <a:ext cx="58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Caratteristiche e prestazi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asellaDiTesto 8"/>
          <p:cNvSpPr/>
          <p:nvPr/>
        </p:nvSpPr>
        <p:spPr>
          <a:xfrm>
            <a:off x="5030640" y="500040"/>
            <a:ext cx="464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Università degli studi di Cameri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A.A. 2007/2008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Corso di laurea in Disegno Industriale e Ambientale  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Corso di Disegno Industriale Contemporaneo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Prof. Giovanni Garro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Collaboratore  Valerio Tambur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utor Adamo Cam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asellaDiTesto 9"/>
          <p:cNvSpPr/>
          <p:nvPr/>
        </p:nvSpPr>
        <p:spPr>
          <a:xfrm>
            <a:off x="4102200" y="5643720"/>
            <a:ext cx="50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tudenti: Amabili - Aragrande – Cecchini - Lambo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3320" y="-21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APACCHI PER MOTO ACCESSORI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95000" y="713880"/>
            <a:ext cx="8915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Bright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Lucida Bright"/>
              </a:rPr>
              <a:t>I portapacchi sono usati nelle moto accessoriate sia per sostenere i top case che le valigie laterali. La loro funzione è quindi quella di sostenere dei pesi e per questo motivo sono delle strutture non mobili, fissabili sulla moto con kit di fissaggio specifici. I materiali usati sono generalmente tubolari in alluminio,  leghe leggere pressofuse o metal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monorackF "/>
          <p:cNvPicPr/>
          <p:nvPr/>
        </p:nvPicPr>
        <p:blipFill>
          <a:blip r:embed="rId1"/>
          <a:stretch/>
        </p:blipFill>
        <p:spPr>
          <a:xfrm>
            <a:off x="928800" y="2143080"/>
            <a:ext cx="2554200" cy="235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PLA-B "/>
          <p:cNvPicPr/>
          <p:nvPr/>
        </p:nvPicPr>
        <p:blipFill>
          <a:blip r:embed="rId2"/>
          <a:stretch/>
        </p:blipFill>
        <p:spPr>
          <a:xfrm>
            <a:off x="3946680" y="2357280"/>
            <a:ext cx="224460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E140 "/>
          <p:cNvPicPr/>
          <p:nvPr/>
        </p:nvPicPr>
        <p:blipFill>
          <a:blip r:embed="rId3"/>
          <a:stretch/>
        </p:blipFill>
        <p:spPr>
          <a:xfrm>
            <a:off x="6578640" y="2214720"/>
            <a:ext cx="2320920" cy="2143080"/>
          </a:xfrm>
          <a:prstGeom prst="rect">
            <a:avLst/>
          </a:prstGeom>
          <a:ln w="0">
            <a:noFill/>
          </a:ln>
        </p:spPr>
      </p:pic>
      <p:sp>
        <p:nvSpPr>
          <p:cNvPr id="52" name="CasellaDiTesto 6"/>
          <p:cNvSpPr/>
          <p:nvPr/>
        </p:nvSpPr>
        <p:spPr>
          <a:xfrm>
            <a:off x="952560" y="4857840"/>
            <a:ext cx="263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Bright"/>
              </a:rPr>
              <a:t>Portapacchi top-case  in metallo: prezzo al pubblico 45 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asellaDiTesto 7"/>
          <p:cNvSpPr/>
          <p:nvPr/>
        </p:nvSpPr>
        <p:spPr>
          <a:xfrm>
            <a:off x="4102200" y="4857840"/>
            <a:ext cx="2320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Bright"/>
              </a:rPr>
              <a:t>Porta valigie con opzione top case in metall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Bright"/>
              </a:rPr>
              <a:t>prezzo al pubblico 100 €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sellaDiTesto 8"/>
          <p:cNvSpPr/>
          <p:nvPr/>
        </p:nvSpPr>
        <p:spPr>
          <a:xfrm>
            <a:off x="7042320" y="4786200"/>
            <a:ext cx="224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Bright"/>
              </a:rPr>
              <a:t>Porta valigie e top case in lega leggera: modello con frecce integrat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Bright"/>
              </a:rPr>
              <a:t>prezzo al pubblico 170 €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41080" y="214200"/>
            <a:ext cx="89154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Bright"/>
              </a:rPr>
              <a:t>…</a:t>
            </a:r>
            <a:r>
              <a:rPr b="1" lang="it-IT" sz="2000" spc="-1" strike="noStrike">
                <a:solidFill>
                  <a:srgbClr val="000000"/>
                </a:solidFill>
                <a:latin typeface="Lucida Bright"/>
              </a:rPr>
              <a:t>Aspettativ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Bright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Lucida Bright"/>
              </a:rPr>
              <a:t>Dai sondaggi condotti non sono emerse problematiche a livello funzionale ma soltanto a livello economico, riguardanti l’elevato prezzo proposto al consumat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Bright"/>
              </a:rPr>
              <a:t>…</a:t>
            </a:r>
            <a:r>
              <a:rPr b="1" lang="it-IT" sz="2000" spc="-1" strike="noStrike">
                <a:solidFill>
                  <a:srgbClr val="000000"/>
                </a:solidFill>
                <a:latin typeface="Lucida Bright"/>
              </a:rPr>
              <a:t>Ipotesi di intervento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Bright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Lucida Bright"/>
              </a:rPr>
              <a:t>1)Abbiamo pensato di proporre l’utilizzo di materiali plastici nella costruzione dei portapacchi, così da abbattere in parte i costi. Inoltre abbiamo pensato ad un portapacchi che si attacca alla moto con un sistema di ventose e che possa poi essere tolto quando non c’è più il bauletto, in modo da non far notare la freddezza estetica di queste strut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Brigh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Bright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Lucida Bright"/>
              </a:rPr>
              <a:t>2)Proponiamo una rete elastica integrata nel portapacchi che possa essere estratta e che permetta il trasporto di piccoli oggetti, adattandosi alle loro forme, senza  ulteriori ingombr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4:54:46Z</dcterms:created>
  <dc:creator>Matteo</dc:creator>
  <dc:description/>
  <dc:language>en-US</dc:language>
  <cp:lastModifiedBy>a</cp:lastModifiedBy>
  <dcterms:modified xsi:type="dcterms:W3CDTF">2007-12-20T17:14:57Z</dcterms:modified>
  <cp:revision>31</cp:revision>
  <dc:subject/>
  <dc:title>BAULETTI E VALIGIE PER MOTO ACCESSORIATA</dc:title>
</cp:coreProperties>
</file>