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907588"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33F312-A7A3-470B-A4B2-FB8DE17A8A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6035CA-939F-42D7-B7DF-8AEB4C3288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7EE166-D81F-4387-ACAB-EC76FCE39A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DAF3BF-269F-4E1A-87AE-B4FA664612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A31E1A-2BCA-4A3A-9055-2E1C00DE70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A46FFE-58FA-45E3-9CB8-8F8D52190F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D11FB5-64B7-47BC-994D-16CB90A287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D3D7F2-829A-4F06-9ED7-DD7CA2BAD7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A7C75A-B1C0-4B0E-9193-1CF201EAFB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5ADE0D-5598-4E22-9A43-0D70C79DDB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EAD03A-0B93-408D-8F15-0FC85102F1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C25079-EB2B-4BE2-8B9E-5AE025CC92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95360" y="6356520"/>
            <a:ext cx="2311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384360" y="6356520"/>
            <a:ext cx="31366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7098840" y="6356520"/>
            <a:ext cx="23115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24027F-8FFF-41A3-A939-B595942593C3}" type="slidenum">
              <a:rPr b="0" lang="it-IT"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Segnaposto contenuto 3" descr="Immagine1.png"/>
          <p:cNvPicPr/>
          <p:nvPr/>
        </p:nvPicPr>
        <p:blipFill>
          <a:blip r:embed="rId1"/>
          <a:stretch/>
        </p:blipFill>
        <p:spPr>
          <a:xfrm>
            <a:off x="-6480" y="208080"/>
            <a:ext cx="9918720" cy="6473880"/>
          </a:xfrm>
          <a:prstGeom prst="rect">
            <a:avLst/>
          </a:prstGeom>
          <a:ln w="0">
            <a:noFill/>
          </a:ln>
        </p:spPr>
      </p:pic>
      <p:sp>
        <p:nvSpPr>
          <p:cNvPr id="42" name="CasellaDiTesto 4"/>
          <p:cNvSpPr/>
          <p:nvPr/>
        </p:nvSpPr>
        <p:spPr>
          <a:xfrm>
            <a:off x="5340240" y="3571920"/>
            <a:ext cx="1392480" cy="3776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Calibri"/>
            </a:endParaRPr>
          </a:p>
        </p:txBody>
      </p:sp>
      <p:sp>
        <p:nvSpPr>
          <p:cNvPr id="43" name="CasellaDiTesto 6"/>
          <p:cNvSpPr/>
          <p:nvPr/>
        </p:nvSpPr>
        <p:spPr>
          <a:xfrm>
            <a:off x="3637080" y="3429000"/>
            <a:ext cx="518616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Calibri"/>
              </a:rPr>
              <a:t>Bauletti </a:t>
            </a:r>
            <a:endParaRPr b="0" lang="en-US" sz="2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Calibri"/>
              </a:rPr>
              <a:t>e </a:t>
            </a:r>
            <a:endParaRPr b="0" lang="en-US" sz="2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Calibri"/>
              </a:rPr>
              <a:t>portapacchi</a:t>
            </a:r>
            <a:endParaRPr b="0" lang="en-US" sz="2400" spc="-1" strike="noStrike">
              <a:solidFill>
                <a:srgbClr val="000000"/>
              </a:solidFill>
              <a:latin typeface="Calibri"/>
            </a:endParaRPr>
          </a:p>
        </p:txBody>
      </p:sp>
      <p:sp>
        <p:nvSpPr>
          <p:cNvPr id="44" name="CasellaDiTesto 7"/>
          <p:cNvSpPr/>
          <p:nvPr/>
        </p:nvSpPr>
        <p:spPr>
          <a:xfrm>
            <a:off x="3327480" y="4786200"/>
            <a:ext cx="58816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Calibri"/>
              </a:rPr>
              <a:t>Caratteristiche e prestazioni</a:t>
            </a:r>
            <a:endParaRPr b="0" lang="en-US" sz="2400" spc="-1" strike="noStrike">
              <a:solidFill>
                <a:srgbClr val="000000"/>
              </a:solidFill>
              <a:latin typeface="Calibri"/>
            </a:endParaRPr>
          </a:p>
        </p:txBody>
      </p:sp>
      <p:sp>
        <p:nvSpPr>
          <p:cNvPr id="45" name="CasellaDiTesto 8"/>
          <p:cNvSpPr/>
          <p:nvPr/>
        </p:nvSpPr>
        <p:spPr>
          <a:xfrm>
            <a:off x="5030640" y="500040"/>
            <a:ext cx="464364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Calibri"/>
              </a:rPr>
              <a:t>Università degli studi di Camerino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Calibri"/>
              </a:rPr>
              <a:t>A.A. 2007/2008 –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Calibri"/>
              </a:rPr>
              <a:t>Corso di laurea in Disegno Industriale e Ambientale  -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Calibri"/>
              </a:rPr>
              <a:t>Corso di Disegno Industriale Contemporaneo –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Calibri"/>
              </a:rPr>
              <a:t>Prof. Giovanni Garroni</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Calibri"/>
              </a:rPr>
              <a:t>Collaboratore  Valerio Tamburri</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Calibri"/>
              </a:rPr>
              <a:t>Tutor Adamo Cameli</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 name="CasellaDiTesto 9"/>
          <p:cNvSpPr/>
          <p:nvPr/>
        </p:nvSpPr>
        <p:spPr>
          <a:xfrm>
            <a:off x="4102200" y="5643720"/>
            <a:ext cx="5065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Calibri"/>
              </a:rPr>
              <a:t>Studenti: Amabili - Aragrande – Cecchini - Lamboni</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63320" y="-285840"/>
            <a:ext cx="842004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AULETTI E VALIGIE PER MOTO ACCESSORIATA</a:t>
            </a:r>
            <a:endParaRPr b="0" lang="en-US" sz="1800" spc="-1" strike="noStrike">
              <a:solidFill>
                <a:srgbClr val="000000"/>
              </a:solidFill>
              <a:latin typeface="Calibri"/>
            </a:endParaRPr>
          </a:p>
        </p:txBody>
      </p:sp>
      <p:sp>
        <p:nvSpPr>
          <p:cNvPr id="48" name="PlaceHolder 2"/>
          <p:cNvSpPr>
            <a:spLocks noGrp="1"/>
          </p:cNvSpPr>
          <p:nvPr>
            <p:ph type="subTitle"/>
          </p:nvPr>
        </p:nvSpPr>
        <p:spPr>
          <a:xfrm>
            <a:off x="231480" y="713880"/>
            <a:ext cx="9442440" cy="1785960"/>
          </a:xfrm>
          <a:prstGeom prst="rect">
            <a:avLst/>
          </a:prstGeom>
          <a:noFill/>
          <a:ln w="0">
            <a:noFill/>
          </a:ln>
        </p:spPr>
        <p:txBody>
          <a:bodyPr anchor="t">
            <a:noAutofit/>
          </a:bodyPr>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Lucida Bright"/>
              </a:rPr>
              <a:t>Nell’ approfondimento dei temi assegnati, abbiamo avuto modo di individuare le peculiarità degli accessori per moto. La ricerca sul mercato ha evidenziato la presenza di diverse aziende operanti  in questo campo, attualmente molto impegnate nella produzione di  nuovi accessori per moto. Nel caso specifico dei bauletti/ valigie per moto, abbiamo notato una diversificazione dei costi a seconda di : forma, dimensione, funzionalità. La forma di ognuno di essi varia in base al mezzo su cui è montato ( moto da strada, da viaggio, da enduro….. ) ed  è possibile trovarli  nella parte posteriore, laterale o superiore. Le dimensioni mutano al variare della capacità, partendo da un minimo di 30 litri (380x380x300 mm) fino ad arrivare ad un massimo di 52 litri di capienza(ottenibili in 593x447x315 mm). Inoltre i bauletti/ valigie presenti sul mercato, sono realizzati con diverse tipologie di materiali,come: plastica rigida,pelle o tessuti sintetici Aspetto fondamentale riguardante la funzionalità è la trasportabilità dell’ accessorio: è possibile smontarlo  ed usarlo diversamente. Il peso varia da 2,2 Kg a 5 Kg, valori non eccessivi per il trasporto da parte dell’ utente.  </a:t>
            </a:r>
            <a:endParaRPr b="0" lang="en-US" sz="1200" spc="-1" strike="noStrike">
              <a:solidFill>
                <a:srgbClr val="000000"/>
              </a:solidFill>
              <a:latin typeface="Calibri"/>
            </a:endParaRPr>
          </a:p>
        </p:txBody>
      </p:sp>
      <p:pic>
        <p:nvPicPr>
          <p:cNvPr id="49" name="Picture 2" descr="282_404_PLXserie"/>
          <p:cNvPicPr/>
          <p:nvPr/>
        </p:nvPicPr>
        <p:blipFill>
          <a:blip r:embed="rId1"/>
          <a:stretch/>
        </p:blipFill>
        <p:spPr>
          <a:xfrm>
            <a:off x="619200" y="2786040"/>
            <a:ext cx="2244600" cy="2071800"/>
          </a:xfrm>
          <a:prstGeom prst="rect">
            <a:avLst/>
          </a:prstGeom>
          <a:ln w="0">
            <a:noFill/>
          </a:ln>
        </p:spPr>
      </p:pic>
      <p:pic>
        <p:nvPicPr>
          <p:cNvPr id="50" name="Picture 3" descr="E52G730 "/>
          <p:cNvPicPr/>
          <p:nvPr/>
        </p:nvPicPr>
        <p:blipFill>
          <a:blip r:embed="rId2"/>
          <a:stretch/>
        </p:blipFill>
        <p:spPr>
          <a:xfrm>
            <a:off x="3738600" y="2786040"/>
            <a:ext cx="2166840" cy="2000160"/>
          </a:xfrm>
          <a:prstGeom prst="rect">
            <a:avLst/>
          </a:prstGeom>
          <a:ln w="0">
            <a:noFill/>
          </a:ln>
        </p:spPr>
      </p:pic>
      <p:pic>
        <p:nvPicPr>
          <p:cNvPr id="51" name="Picture 4" descr="E30 "/>
          <p:cNvPicPr/>
          <p:nvPr/>
        </p:nvPicPr>
        <p:blipFill>
          <a:blip r:embed="rId3"/>
          <a:stretch/>
        </p:blipFill>
        <p:spPr>
          <a:xfrm>
            <a:off x="7042320" y="2857680"/>
            <a:ext cx="2090520" cy="1928520"/>
          </a:xfrm>
          <a:prstGeom prst="rect">
            <a:avLst/>
          </a:prstGeom>
          <a:ln w="0">
            <a:noFill/>
          </a:ln>
        </p:spPr>
      </p:pic>
      <p:sp>
        <p:nvSpPr>
          <p:cNvPr id="52" name="CasellaDiTesto 6"/>
          <p:cNvSpPr/>
          <p:nvPr/>
        </p:nvSpPr>
        <p:spPr>
          <a:xfrm>
            <a:off x="619200" y="5191200"/>
            <a:ext cx="22446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Lucida Bright"/>
              </a:rPr>
              <a:t>Valigia laterale: </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Lucida Bright"/>
              </a:rPr>
              <a:t>costo al pubblico 115 €, </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Lucida Bright"/>
              </a:rPr>
              <a:t>vendute in coppia.</a:t>
            </a:r>
            <a:endParaRPr b="0" lang="en-US" sz="1200" spc="-1" strike="noStrike">
              <a:solidFill>
                <a:srgbClr val="000000"/>
              </a:solidFill>
              <a:latin typeface="Calibri"/>
            </a:endParaRPr>
          </a:p>
        </p:txBody>
      </p:sp>
      <p:sp>
        <p:nvSpPr>
          <p:cNvPr id="53" name="CasellaDiTesto 7"/>
          <p:cNvSpPr/>
          <p:nvPr/>
        </p:nvSpPr>
        <p:spPr>
          <a:xfrm>
            <a:off x="3881520" y="5214960"/>
            <a:ext cx="26319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Lucida Bright"/>
              </a:rPr>
              <a:t>Valigia top-case: </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Lucida Bright"/>
              </a:rPr>
              <a:t>costo al pubblico 150 €.</a:t>
            </a:r>
            <a:endParaRPr b="0" lang="en-US" sz="1200" spc="-1" strike="noStrike">
              <a:solidFill>
                <a:srgbClr val="000000"/>
              </a:solidFill>
              <a:latin typeface="Calibri"/>
            </a:endParaRPr>
          </a:p>
        </p:txBody>
      </p:sp>
      <p:sp>
        <p:nvSpPr>
          <p:cNvPr id="54" name="CasellaDiTesto 8"/>
          <p:cNvSpPr/>
          <p:nvPr/>
        </p:nvSpPr>
        <p:spPr>
          <a:xfrm>
            <a:off x="7197840" y="5214960"/>
            <a:ext cx="27082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Lucida Bright"/>
              </a:rPr>
              <a:t>Bauletto top-case: </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Lucida Bright"/>
              </a:rPr>
              <a:t>costo al pubblico 80 €.</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txBox="1"/>
          <p:nvPr/>
        </p:nvSpPr>
        <p:spPr>
          <a:xfrm>
            <a:off x="541080" y="214200"/>
            <a:ext cx="8915400" cy="6429600"/>
          </a:xfrm>
          <a:prstGeom prst="rect">
            <a:avLst/>
          </a:prstGeom>
          <a:noFill/>
          <a:ln w="0">
            <a:noFill/>
          </a:ln>
        </p:spPr>
        <p:txBody>
          <a:bodyPr anchor="t">
            <a:norm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Lucida Bright"/>
              </a:rPr>
              <a:t>…</a:t>
            </a:r>
            <a:r>
              <a:rPr b="1" lang="it-IT" sz="2000" spc="-1" strike="noStrike">
                <a:solidFill>
                  <a:srgbClr val="000000"/>
                </a:solidFill>
                <a:latin typeface="Lucida Bright"/>
              </a:rPr>
              <a:t>Aspettative…</a:t>
            </a:r>
            <a:endParaRPr b="0" lang="en-US" sz="20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Lucida Bright"/>
              </a:rPr>
              <a:t>Dai sondaggi condotti, sono emerse alcune esigenze pratiche che non sono soddisfatte dagli attuali prodotti in commercio. </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Lucida Bright"/>
              </a:rPr>
              <a:t>Un numero sempre maggiore di persone vorrebbe un prodotto il cui utilizzo sia più immediato, soprattutto nell’apertura e nella chiusura. Altri lamentano un eccessivo ingombro dei bauletti nel momento del trasporto, anche quando essi non sono pieni. A volte la struttura interna non permette il trasporto sicuro degli oggetti, sottoponendoli ad eventuali urti.</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Lucida Bright"/>
              </a:rPr>
              <a:t>…</a:t>
            </a:r>
            <a:r>
              <a:rPr b="1" lang="it-IT" sz="2000" spc="-1" strike="noStrike">
                <a:solidFill>
                  <a:srgbClr val="000000"/>
                </a:solidFill>
                <a:latin typeface="Lucida Bright"/>
              </a:rPr>
              <a:t>Ipotesi di intervento…</a:t>
            </a:r>
            <a:endParaRPr b="0" lang="en-US" sz="20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Lucida Bright"/>
              </a:rPr>
              <a:t>Dall’indagine sul mercato e dalle aspettative degli utenti, sono nate alcune idee per migliorare il prodotto.</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lnSpc>
                <a:spcPct val="100000"/>
              </a:lnSpc>
              <a:spcBef>
                <a:spcPts val="300"/>
              </a:spcBef>
              <a:buClr>
                <a:srgbClr val="000000"/>
              </a:buClr>
              <a:buFont typeface="Lucida Bright"/>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Lucida Bright"/>
              </a:rPr>
              <a:t>Rivestimento interno isolante che si adatta alle forme dell’oggetto trasportato: il materiale potrebbe essere simile ad un gel che attutisce gli urti.</a:t>
            </a:r>
            <a:endParaRPr b="0" lang="en-US" sz="1200" spc="-1" strike="noStrike">
              <a:solidFill>
                <a:srgbClr val="000000"/>
              </a:solidFill>
              <a:latin typeface="Calibri"/>
            </a:endParaRPr>
          </a:p>
          <a:p>
            <a:pPr marL="343080" indent="-343080">
              <a:lnSpc>
                <a:spcPct val="100000"/>
              </a:lnSpc>
              <a:spcBef>
                <a:spcPts val="300"/>
              </a:spcBef>
              <a:buClr>
                <a:srgbClr val="000000"/>
              </a:buClr>
              <a:buFont typeface="Lucida Bright"/>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lnSpc>
                <a:spcPct val="100000"/>
              </a:lnSpc>
              <a:spcBef>
                <a:spcPts val="300"/>
              </a:spcBef>
              <a:buClr>
                <a:srgbClr val="000000"/>
              </a:buClr>
              <a:buFont typeface="Lucida Bright"/>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Lucida Bright"/>
              </a:rPr>
              <a:t>Apertura del bauletto simile a quella dei normali cassetti (one touch), congeniale in termini di aerodinamica e di ordine interno. Il cassetto è pensato estraibile ed indipendente dal top case, in modo tale da avere a disposizione un unità più piccola e leggera per trasporti minimi.</a:t>
            </a:r>
            <a:endParaRPr b="0" lang="en-US" sz="1200" spc="-1" strike="noStrike">
              <a:solidFill>
                <a:srgbClr val="000000"/>
              </a:solidFill>
              <a:latin typeface="Calibri"/>
            </a:endParaRPr>
          </a:p>
          <a:p>
            <a:pPr marL="343080" indent="-343080">
              <a:lnSpc>
                <a:spcPct val="100000"/>
              </a:lnSpc>
              <a:spcBef>
                <a:spcPts val="300"/>
              </a:spcBef>
              <a:buClr>
                <a:srgbClr val="000000"/>
              </a:buClr>
              <a:buFont typeface="Lucida Bright"/>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lnSpc>
                <a:spcPct val="100000"/>
              </a:lnSpc>
              <a:spcBef>
                <a:spcPts val="300"/>
              </a:spcBef>
              <a:buClr>
                <a:srgbClr val="000000"/>
              </a:buClr>
              <a:buFont typeface="Lucida Bright"/>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Lucida Bright"/>
              </a:rPr>
              <a:t>Struttura personalizzabile e regolabile con un sistema a scatti, tale da avere sempre il bauletto nella parte posteriore, ma con dimensioni regolabili a seconda di ciò che si trasporta, senza avere un ingombro costante e a volte inutilizzato.</a:t>
            </a:r>
            <a:endParaRPr b="0" lang="en-US" sz="1200" spc="-1" strike="noStrike">
              <a:solidFill>
                <a:srgbClr val="000000"/>
              </a:solidFill>
              <a:latin typeface="Calibri"/>
            </a:endParaRPr>
          </a:p>
        </p:txBody>
      </p:sp>
      <p:sp>
        <p:nvSpPr>
          <p:cNvPr id="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5T14:54:46Z</dcterms:created>
  <dc:creator>Matteo</dc:creator>
  <dc:description/>
  <dc:language>en-US</dc:language>
  <cp:lastModifiedBy>a</cp:lastModifiedBy>
  <dcterms:modified xsi:type="dcterms:W3CDTF">2007-12-20T17:14:21Z</dcterms:modified>
  <cp:revision>31</cp:revision>
  <dc:subject/>
  <dc:title>BAULETTI E VALIGIE PER MOTO ACCESSORIATA</dc:title>
</cp:coreProperties>
</file>