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16A1-1EB4-4102-BB36-97306438C67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08C1-FD2E-4E73-93AB-D6B910AD7AB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3CB-D686-4EC2-B800-09407E32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18B-20B6-48F0-B91E-B9C3EE2D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B4F-FE09-437B-96A0-077F0C23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7E0-0E76-4F7D-ABFF-7B6927A9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FE0-2710-4F27-B90C-B5AA8A7F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A11-180C-4226-BFF2-240DBBCC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069-6FFF-4692-A76F-EDB21634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001-8C7E-47F3-A9EC-29B9D50D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867-9956-4F15-9ED1-BBEAE17A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0C3-906F-4503-8DB8-7BFFDEC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C70-4151-4A1E-9E91-5EE26203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E00-8122-478C-8ACF-C73AC75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120F-32FF-4773-8087-80DAFE53DDE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accakappa.it/elencoprodotti/brush_and_accessories_bioceta_prodotto.asp?ID=17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12"/>
          <p:cNvSpPr/>
          <p:nvPr/>
        </p:nvSpPr>
        <p:spPr>
          <a:xfrm>
            <a:off x="3786120" y="3929040"/>
            <a:ext cx="6715080" cy="114300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85840" y="304200"/>
            <a:ext cx="321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Università degli studi di Camerino </a:t>
            </a:r>
            <a:r>
              <a:rPr b="1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7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8"/>
          <p:cNvSpPr/>
          <p:nvPr/>
        </p:nvSpPr>
        <p:spPr>
          <a:xfrm>
            <a:off x="3929040" y="4071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segno Industriale Contemporaneo aa 2007-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asellaDiTesto 9"/>
          <p:cNvSpPr/>
          <p:nvPr/>
        </p:nvSpPr>
        <p:spPr>
          <a:xfrm>
            <a:off x="3929040" y="45594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ce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iovanni Garroni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85840" y="533160"/>
            <a:ext cx="20714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acoltà di architettura </a:t>
            </a:r>
            <a:r>
              <a:rPr b="1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357280" y="675720"/>
            <a:ext cx="485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orso di laurea in disegno industriale e ambienta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ttangolo 16"/>
          <p:cNvSpPr/>
          <p:nvPr/>
        </p:nvSpPr>
        <p:spPr>
          <a:xfrm>
            <a:off x="428760" y="4643280"/>
            <a:ext cx="2286000" cy="221472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trabo.it/ita/images/zoom/B04_b.jpg"/>
          <p:cNvPicPr/>
          <p:nvPr/>
        </p:nvPicPr>
        <p:blipFill>
          <a:blip r:embed="rId1"/>
          <a:stretch/>
        </p:blipFill>
        <p:spPr>
          <a:xfrm>
            <a:off x="5357880" y="1928880"/>
            <a:ext cx="2517840" cy="2971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Hairmax Lasercomb"/>
          <p:cNvPicPr/>
          <p:nvPr/>
        </p:nvPicPr>
        <p:blipFill>
          <a:blip r:embed="rId2"/>
          <a:stretch/>
        </p:blipFill>
        <p:spPr>
          <a:xfrm>
            <a:off x="1357200" y="2357280"/>
            <a:ext cx="2933640" cy="1914840"/>
          </a:xfrm>
          <a:prstGeom prst="rect">
            <a:avLst/>
          </a:prstGeom>
          <a:ln w="0">
            <a:noFill/>
          </a:ln>
        </p:spPr>
      </p:pic>
      <p:sp>
        <p:nvSpPr>
          <p:cNvPr id="58" name="CasellaDiTesto 8"/>
          <p:cNvSpPr/>
          <p:nvPr/>
        </p:nvSpPr>
        <p:spPr>
          <a:xfrm>
            <a:off x="512640" y="54165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inda Carlocch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sellaDiTesto 9"/>
          <p:cNvSpPr/>
          <p:nvPr/>
        </p:nvSpPr>
        <p:spPr>
          <a:xfrm>
            <a:off x="500040" y="50594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iorgio Di Ces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sellaDiTesto 10"/>
          <p:cNvSpPr/>
          <p:nvPr/>
        </p:nvSpPr>
        <p:spPr>
          <a:xfrm>
            <a:off x="500040" y="5773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uca Vinciguer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sellaDiTesto 11"/>
          <p:cNvSpPr/>
          <p:nvPr/>
        </p:nvSpPr>
        <p:spPr>
          <a:xfrm>
            <a:off x="500040" y="47023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essandra D’Eugeni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sellaDiTesto 12"/>
          <p:cNvSpPr/>
          <p:nvPr/>
        </p:nvSpPr>
        <p:spPr>
          <a:xfrm>
            <a:off x="500040" y="6130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ilvia Balduc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tangolo 15"/>
          <p:cNvSpPr/>
          <p:nvPr/>
        </p:nvSpPr>
        <p:spPr>
          <a:xfrm>
            <a:off x="-928800" y="714240"/>
            <a:ext cx="9001080" cy="785880"/>
          </a:xfrm>
          <a:prstGeom prst="rect">
            <a:avLst/>
          </a:prstGeom>
          <a:solidFill>
            <a:srgbClr val="95b3d7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asellaDiTesto 19"/>
          <p:cNvSpPr/>
          <p:nvPr/>
        </p:nvSpPr>
        <p:spPr>
          <a:xfrm>
            <a:off x="785880" y="7142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pazz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20"/>
          <p:cNvSpPr/>
          <p:nvPr/>
        </p:nvSpPr>
        <p:spPr>
          <a:xfrm>
            <a:off x="3857760" y="10717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sellaDiTesto 21"/>
          <p:cNvSpPr/>
          <p:nvPr/>
        </p:nvSpPr>
        <p:spPr>
          <a:xfrm>
            <a:off x="5143680" y="7858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8"/>
          <p:cNvSpPr/>
          <p:nvPr/>
        </p:nvSpPr>
        <p:spPr>
          <a:xfrm>
            <a:off x="4481640" y="29062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asellaDiTesto 42"/>
          <p:cNvSpPr/>
          <p:nvPr/>
        </p:nvSpPr>
        <p:spPr>
          <a:xfrm>
            <a:off x="285840" y="1428840"/>
            <a:ext cx="20001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COMUNI</a:t>
            </a:r>
            <a:r>
              <a:rPr b="1" lang="it-IT" sz="16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it-IT" sz="1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varietà di materiali per il fusto e le setole quali legno, plastica e cinghia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sellaDiTesto 49"/>
          <p:cNvSpPr/>
          <p:nvPr/>
        </p:nvSpPr>
        <p:spPr>
          <a:xfrm>
            <a:off x="4357800" y="407196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DA VIAGGIO: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lastica e vetro(specchio); si richiude per ridurre l’ingomb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sellaDiTesto 50"/>
          <p:cNvSpPr/>
          <p:nvPr/>
        </p:nvSpPr>
        <p:spPr>
          <a:xfrm>
            <a:off x="285840" y="3714840"/>
            <a:ext cx="3214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N CHIODI: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pilli dritti lunghi, chiodi-punta arrotondata, manico ergonom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sellaDiTesto 51"/>
          <p:cNvSpPr/>
          <p:nvPr/>
        </p:nvSpPr>
        <p:spPr>
          <a:xfrm>
            <a:off x="4286160" y="1050840"/>
            <a:ext cx="221472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BIOCETA</a:t>
            </a: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Rispetto per l'ambiente e utilizzo di materiali naturali . Oggetti in acetato di cellulosa biodegradabile e privo di sostanze colorant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1" descr="http://www.stilpromo.com/foto/KC2683.jpg"/>
          <p:cNvPicPr/>
          <p:nvPr/>
        </p:nvPicPr>
        <p:blipFill>
          <a:blip r:embed="rId1"/>
          <a:stretch/>
        </p:blipFill>
        <p:spPr>
          <a:xfrm>
            <a:off x="6715080" y="4695840"/>
            <a:ext cx="1946160" cy="1947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2" descr="http://www.accakappa.it/elencoprodotti/bioceta/435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94560" y="1693800"/>
            <a:ext cx="2020680" cy="202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Spazzola per Capelli in Legno-modello grande-spilli dritti e lunghi "/>
          <p:cNvPicPr/>
          <p:nvPr/>
        </p:nvPicPr>
        <p:blipFill>
          <a:blip r:embed="rId4"/>
          <a:stretch/>
        </p:blipFill>
        <p:spPr>
          <a:xfrm>
            <a:off x="1785960" y="4357800"/>
            <a:ext cx="2033640" cy="2184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4" descr="http://img.kelkoo.com/it/medium/669/015/0071295489376654347022701371713531015669.jpg"/>
          <p:cNvPicPr/>
          <p:nvPr/>
        </p:nvPicPr>
        <p:blipFill>
          <a:blip r:embed="rId5"/>
          <a:stretch/>
        </p:blipFill>
        <p:spPr>
          <a:xfrm>
            <a:off x="2286000" y="1785960"/>
            <a:ext cx="1709640" cy="1711440"/>
          </a:xfrm>
          <a:prstGeom prst="rect">
            <a:avLst/>
          </a:prstGeom>
          <a:ln w="0">
            <a:noFill/>
          </a:ln>
        </p:spPr>
      </p:pic>
      <p:sp>
        <p:nvSpPr>
          <p:cNvPr id="76" name="Rettangolo 15"/>
          <p:cNvSpPr/>
          <p:nvPr/>
        </p:nvSpPr>
        <p:spPr>
          <a:xfrm>
            <a:off x="-357120" y="71280"/>
            <a:ext cx="9786960" cy="500400"/>
          </a:xfrm>
          <a:prstGeom prst="rect">
            <a:avLst/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ttangolo 16"/>
          <p:cNvSpPr/>
          <p:nvPr/>
        </p:nvSpPr>
        <p:spPr>
          <a:xfrm>
            <a:off x="-357120" y="642960"/>
            <a:ext cx="9786960" cy="500040"/>
          </a:xfrm>
          <a:prstGeom prst="rect">
            <a:avLst/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sellaDiTesto 17"/>
          <p:cNvSpPr/>
          <p:nvPr/>
        </p:nvSpPr>
        <p:spPr>
          <a:xfrm>
            <a:off x="3643200" y="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pazz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asellaDiTesto 18"/>
          <p:cNvSpPr/>
          <p:nvPr/>
        </p:nvSpPr>
        <p:spPr>
          <a:xfrm>
            <a:off x="285840" y="7016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PAZZOLE COMU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cf8050_0"/>
          <p:cNvPicPr/>
          <p:nvPr/>
        </p:nvPicPr>
        <p:blipFill>
          <a:blip r:embed="rId1"/>
          <a:stretch/>
        </p:blipFill>
        <p:spPr>
          <a:xfrm>
            <a:off x="6858000" y="1357200"/>
            <a:ext cx="1357200" cy="193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as1201"/>
          <p:cNvPicPr/>
          <p:nvPr/>
        </p:nvPicPr>
        <p:blipFill>
          <a:blip r:embed="rId2"/>
          <a:stretch/>
        </p:blipFill>
        <p:spPr>
          <a:xfrm>
            <a:off x="928800" y="4143240"/>
            <a:ext cx="1285920" cy="18320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500040" y="1184760"/>
            <a:ext cx="57866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pazzola elettrica da 1200 wa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missione di ioni per capelli luminosi e morbid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ndicatore luminoso di ion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3 temperature/velocità con pulsante aria fredd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5 accessori: cencentratore, spazzola doubleface per stirare i capelli, ferro a spirale per riccioli, Spazzola stretta con setole riscaldate per capelli ricci, spazzola a setole larghe per riccioli voluminos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ttangolo 13"/>
          <p:cNvSpPr/>
          <p:nvPr/>
        </p:nvSpPr>
        <p:spPr>
          <a:xfrm>
            <a:off x="-357120" y="71280"/>
            <a:ext cx="9929880" cy="500400"/>
          </a:xfrm>
          <a:prstGeom prst="rect">
            <a:avLst/>
          </a:prstGeom>
          <a:solidFill>
            <a:srgbClr val="c4bd97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asellaDiTesto 16"/>
          <p:cNvSpPr/>
          <p:nvPr/>
        </p:nvSpPr>
        <p:spPr>
          <a:xfrm>
            <a:off x="285840" y="1429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MING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500280" y="4340160"/>
            <a:ext cx="478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pazzola soffiante ion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otenza 1000 Wat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nterruttore termostato/velocità 2 posizion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asto aria fredd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pazzole morbide per pettinare e modellare i capell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 CF9000 "/>
          <p:cNvPicPr/>
          <p:nvPr/>
        </p:nvPicPr>
        <p:blipFill>
          <a:blip r:embed="rId1"/>
          <a:stretch/>
        </p:blipFill>
        <p:spPr>
          <a:xfrm>
            <a:off x="5786280" y="12142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euroelettrica.it/pic_prod/imetec_egog3800_320.jpg"/>
          <p:cNvPicPr/>
          <p:nvPr/>
        </p:nvPicPr>
        <p:blipFill>
          <a:blip r:embed="rId2"/>
          <a:stretch/>
        </p:blipFill>
        <p:spPr>
          <a:xfrm>
            <a:off x="880920" y="4214880"/>
            <a:ext cx="2119320" cy="211932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5"/>
          <p:cNvSpPr/>
          <p:nvPr/>
        </p:nvSpPr>
        <p:spPr>
          <a:xfrm>
            <a:off x="928800" y="857160"/>
            <a:ext cx="35002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etole </a:t>
            </a: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anti-nodi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fanno scivolare perfettamente i capelli intorno alla spazzola.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Rotazione automatica: la spazzola gira automaticamente a destra o a sinistra con un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ovimento rotatorio a 360°, potenza 400 Watt, flusso d'aria a 2 livelli di temperatura, regolazione della velocità, spazzole estraibili e protezione in plastica delle seto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sellaDiTesto 6"/>
          <p:cNvSpPr/>
          <p:nvPr/>
        </p:nvSpPr>
        <p:spPr>
          <a:xfrm>
            <a:off x="3857760" y="4500720"/>
            <a:ext cx="4643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pazzola soffiante, potenza 600 Watt, interruttore termostato/velocità 3 posizioni, tasto aria fredda, spazzola per brushing, spazzola piatta. Caratteristiche Tecniche: Phon modellatore con 5 accessori, potenza 800W, spazzola ovale, spazzola rotonda, convogliatore, diffusore, piastra liscia. 3 regolazioni di temperatur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tangolo 7"/>
          <p:cNvSpPr/>
          <p:nvPr/>
        </p:nvSpPr>
        <p:spPr>
          <a:xfrm>
            <a:off x="5643720" y="357120"/>
            <a:ext cx="3929040" cy="500040"/>
          </a:xfrm>
          <a:prstGeom prst="rect">
            <a:avLst/>
          </a:prstGeom>
          <a:solidFill>
            <a:srgbClr val="e6b9b8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sellaDiTesto 8"/>
          <p:cNvSpPr/>
          <p:nvPr/>
        </p:nvSpPr>
        <p:spPr>
          <a:xfrm>
            <a:off x="7715160" y="4287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OW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tangolo 9"/>
          <p:cNvSpPr/>
          <p:nvPr/>
        </p:nvSpPr>
        <p:spPr>
          <a:xfrm>
            <a:off x="-214200" y="3286080"/>
            <a:ext cx="3500280" cy="571680"/>
          </a:xfrm>
          <a:prstGeom prst="rect">
            <a:avLst/>
          </a:prstGeom>
          <a:solidFill>
            <a:srgbClr val="95b3d7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llaDiTesto 10"/>
          <p:cNvSpPr/>
          <p:nvPr/>
        </p:nvSpPr>
        <p:spPr>
          <a:xfrm>
            <a:off x="142920" y="34290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MET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sellaDiTesto 8"/>
          <p:cNvSpPr/>
          <p:nvPr/>
        </p:nvSpPr>
        <p:spPr>
          <a:xfrm>
            <a:off x="4143240" y="1136520"/>
            <a:ext cx="4643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airMax™ e' il primo laser freddo al mondo per uso domiciliare contro la perdita dei capelli. </a:t>
            </a:r>
            <a:br>
              <a:rPr sz="1300"/>
            </a:br>
            <a:r>
              <a:rPr b="0" lang="it-IT" sz="1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gni volta che lo usi, HairMax™ produce un fascio freddo che migliora la microcircolazione ai follicoli dei tuoi capelli. Il laser freddo stimola i tessuti del cuoio capelluto ed i globuli rossi. Studi scientifici sulle colture cellulari hanno dimostrato che il laser penetra nei follicoli e accresce l'attivita dell'adenosin-trifosfato (ATP), un'importante molecola che veicola energia in tutte le cellule viventi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airmax Lasercomb"/>
          <p:cNvPicPr/>
          <p:nvPr/>
        </p:nvPicPr>
        <p:blipFill>
          <a:blip r:embed="rId1"/>
          <a:stretch/>
        </p:blipFill>
        <p:spPr>
          <a:xfrm>
            <a:off x="714240" y="1300320"/>
            <a:ext cx="2934000" cy="1914480"/>
          </a:xfrm>
          <a:prstGeom prst="rect">
            <a:avLst/>
          </a:prstGeom>
          <a:ln w="0">
            <a:noFill/>
          </a:ln>
        </p:spPr>
      </p:pic>
      <p:sp>
        <p:nvSpPr>
          <p:cNvPr id="96" name="CasellaDiTesto 10"/>
          <p:cNvSpPr/>
          <p:nvPr/>
        </p:nvSpPr>
        <p:spPr>
          <a:xfrm>
            <a:off x="428760" y="3429000"/>
            <a:ext cx="357192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a spazzola soffiante </a:t>
            </a:r>
            <a:r>
              <a:rPr b="1" lang="it-IT" sz="1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rush Activ' CF900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possiede due sensi di rotazione per le ciocche, sia al'interno che all'esterno.</a:t>
            </a:r>
            <a:br>
              <a:rPr sz="1300"/>
            </a:br>
            <a:r>
              <a:rPr b="0" lang="it-IT" sz="1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a variazione di velocità si adatta alla natura del capello, fine o spesso.</a:t>
            </a:r>
            <a:br>
              <a:rPr sz="1300"/>
            </a:br>
            <a:r>
              <a:rPr b="0" lang="it-IT" sz="1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enduta con due spazzole di 30 e 50 mm di diametro per effetti impeccabili su ciocche corte e lunghe.</a:t>
            </a:r>
            <a:br>
              <a:rPr sz="1300"/>
            </a:br>
            <a:r>
              <a:rPr b="0" lang="it-IT" sz="1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n la spazzola soffiante </a:t>
            </a:r>
            <a:r>
              <a:rPr b="1" lang="it-IT" sz="1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rush Activ'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brushing voluminosi e professionali assicurati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ROWENTA Spazzola soffiante Brush Activ' CF9000"/>
          <p:cNvPicPr/>
          <p:nvPr/>
        </p:nvPicPr>
        <p:blipFill>
          <a:blip r:embed="rId2"/>
          <a:stretch/>
        </p:blipFill>
        <p:spPr>
          <a:xfrm>
            <a:off x="5143680" y="3714840"/>
            <a:ext cx="3429000" cy="2894040"/>
          </a:xfrm>
          <a:prstGeom prst="rect">
            <a:avLst/>
          </a:prstGeom>
          <a:ln w="0">
            <a:noFill/>
          </a:ln>
        </p:spPr>
      </p:pic>
      <p:sp>
        <p:nvSpPr>
          <p:cNvPr id="98" name="Rettangolo 5"/>
          <p:cNvSpPr/>
          <p:nvPr/>
        </p:nvSpPr>
        <p:spPr>
          <a:xfrm>
            <a:off x="-285840" y="428760"/>
            <a:ext cx="5429520" cy="57132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sellaDiTesto 6"/>
          <p:cNvSpPr/>
          <p:nvPr/>
        </p:nvSpPr>
        <p:spPr>
          <a:xfrm>
            <a:off x="857160" y="5587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AIRMAX LASERCOM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ttangolo 7"/>
          <p:cNvSpPr/>
          <p:nvPr/>
        </p:nvSpPr>
        <p:spPr>
          <a:xfrm>
            <a:off x="6715080" y="3643200"/>
            <a:ext cx="2714760" cy="57168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9"/>
          <p:cNvSpPr/>
          <p:nvPr/>
        </p:nvSpPr>
        <p:spPr>
          <a:xfrm>
            <a:off x="6786720" y="377352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RUSH ACTIV'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ttangolo 10"/>
          <p:cNvSpPr/>
          <p:nvPr/>
        </p:nvSpPr>
        <p:spPr>
          <a:xfrm>
            <a:off x="-642960" y="214200"/>
            <a:ext cx="10644120" cy="642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sellaDiTesto 3"/>
          <p:cNvSpPr/>
          <p:nvPr/>
        </p:nvSpPr>
        <p:spPr>
          <a:xfrm>
            <a:off x="2428920" y="285840"/>
            <a:ext cx="3643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NSIDERAZIONI DEL GRUPP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sellaDiTesto 6"/>
          <p:cNvSpPr/>
          <p:nvPr/>
        </p:nvSpPr>
        <p:spPr>
          <a:xfrm>
            <a:off x="571680" y="1000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PAZZ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asellaDiTesto 7"/>
          <p:cNvSpPr/>
          <p:nvPr/>
        </p:nvSpPr>
        <p:spPr>
          <a:xfrm>
            <a:off x="4929120" y="1000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asellaDiTesto 8"/>
          <p:cNvSpPr/>
          <p:nvPr/>
        </p:nvSpPr>
        <p:spPr>
          <a:xfrm>
            <a:off x="357120" y="1571760"/>
            <a:ext cx="3429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L DIFETTO PRINCIPALE DELLE SPAZZOLE STA PROPRIO NELLA PULIZIA DELLE SETOLE SPORCHE, CHE, LE RENDONO FASTIDIOSE DA UTILIZZARE E POCO IGENICH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N ULTERIORE PROBLEMA DELLE SPAZZOLE E’ LA FORMA IRREGOLARE, CHE IMPEDISCE LA POSSIBILITA’ DI RIPORLA IN MODO ORDINATO E POCO INGOMBRA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OPRATTUTTO PER CHI NE FA UN USO PROFESSIONALE (PARRUCCHIERI), SAREBBE PIU’ COMODA UN’IMPUGNATURA MAGGIORMENTE ERGONOMICA CHE NE FACILITI L’UTILIZZ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 SPAZZOLA ,NEL TEMPO, NON HA AVUTO DEI CAMBIAMENTI CHE RIVOLUZIONASSERO IL SUO UTILIZZO.APPARTE L’INTRODUZIONE DEI VARI MECCANASMI ELETTRICI, LA COMUNE SPAZZOLA E’ RIMASTA QUINDI LA STESSA NELL’USO E NELLA FORM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asellaDiTesto 9"/>
          <p:cNvSpPr/>
          <p:nvPr/>
        </p:nvSpPr>
        <p:spPr>
          <a:xfrm>
            <a:off x="5072040" y="1533600"/>
            <a:ext cx="3429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BBIAMO NOTATO CHE I TOSTAPANE IN COMMERCIO HANNO UN SISTEMA PER LA PULIZIA MA NON è SUFFICIENTE PER AVERE UN IGIENE COMPLET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OGGI SONO MOLTI GLI ELETTRODOMESTICI DI USO COMUNE E SPESSO NON SI HA ABBASTANZA SPAZIO PER RIPORLI, IL TOSTAPANE DOVREBBE ESSERE RIDIMENSIONATO PER LIMITARE IL “PROBLEMA SPAZIO” NELL’AMBIENTE CUCIN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SICUREZZA NON E’ SEMPRE UN PUNTO CARDINE NELLA PROGETTAZIONE DEL TOSTAPANE, IN QUANTO NON TUTTI SONO DOTATE DI PARETI ESTERNE ISOLATE E UN MODO PRATICO DI ESTRARRE LE FET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OLTO SPESSO IL TIMER IMPOSTATO NON CORRISPONDE AL TEMPO PER LA COTTURA DESIDERATA E SI DEVONO ESTRARRE LE FETTE PER CONTROLLARLA, SAREBBE PIU FACILE  SE SI POTESSERO VEDERE DALL’ ESTER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ttangolo 3"/>
          <p:cNvSpPr/>
          <p:nvPr/>
        </p:nvSpPr>
        <p:spPr>
          <a:xfrm>
            <a:off x="-357120" y="428760"/>
            <a:ext cx="664380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sellaDiTesto 4"/>
          <p:cNvSpPr/>
          <p:nvPr/>
        </p:nvSpPr>
        <p:spPr>
          <a:xfrm>
            <a:off x="285840" y="6429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OPOSTE PROGETTU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sellaDiTesto 5"/>
          <p:cNvSpPr/>
          <p:nvPr/>
        </p:nvSpPr>
        <p:spPr>
          <a:xfrm>
            <a:off x="4214880" y="38577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sellaDiTesto 6"/>
          <p:cNvSpPr/>
          <p:nvPr/>
        </p:nvSpPr>
        <p:spPr>
          <a:xfrm>
            <a:off x="928800" y="4456080"/>
            <a:ext cx="671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</a:t>
            </a: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 inteso non più come complemento d’arredo ma come parte integrante del sistema cuc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asellaDiTesto 7"/>
          <p:cNvSpPr/>
          <p:nvPr/>
        </p:nvSpPr>
        <p:spPr>
          <a:xfrm>
            <a:off x="928800" y="509904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videre l’oggetto in due elementi fondamentali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truttura completamente lava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rpo elettrico estrai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sellaDiTesto 9"/>
          <p:cNvSpPr/>
          <p:nvPr/>
        </p:nvSpPr>
        <p:spPr>
          <a:xfrm>
            <a:off x="4357800" y="178596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PAZZ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asellaDiTesto 11"/>
          <p:cNvSpPr/>
          <p:nvPr/>
        </p:nvSpPr>
        <p:spPr>
          <a:xfrm>
            <a:off x="928800" y="242892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nico e setole a scompar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asellaDiTesto 12"/>
          <p:cNvSpPr/>
          <p:nvPr/>
        </p:nvSpPr>
        <p:spPr>
          <a:xfrm>
            <a:off x="928800" y="2786040"/>
            <a:ext cx="55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igliorare l’igie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1:40:42Z</dcterms:created>
  <dc:creator>Utente Windows</dc:creator>
  <dc:description/>
  <dc:language>en-US</dc:language>
  <cp:lastModifiedBy>a</cp:lastModifiedBy>
  <dcterms:modified xsi:type="dcterms:W3CDTF">2008-01-06T19:57:14Z</dcterms:modified>
  <cp:revision>69</cp:revision>
  <dc:subject/>
  <dc:title>Diapositiva 1</dc:title>
</cp:coreProperties>
</file>