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98C-2D70-4826-9BD2-7023A53A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D2B-CC5B-49E8-B0C1-082EBB55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2820-E250-44E9-9E5E-22726162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32D-D425-4A95-AE21-909C0CAB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634D-6ED9-4BAF-B964-67E34CA7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CA9A-7F23-4CB2-8341-BAA07E1A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3FC6-21A2-417E-801E-40E691E9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71B1-4731-46CE-910A-3EE53C38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4254-9602-4930-BE29-B5EB7C07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F183-809F-42AB-829E-4341AB2C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4046-C698-4AEC-8F46-51408DD6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5CD-22DB-4637-A390-C35BE67B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5D42-8C3B-4B3B-AB29-ABE9F1D6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0CED-8C5D-4F70-8A6D-AE6C6C6D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04FF-0ED0-4569-820D-722E2BFA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DD22-1233-498D-BF1C-C59C4E76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1B78-B226-4F52-A74F-A78B495C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04F-724D-4683-AC09-5E7592DC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116-565A-433E-8FE8-504D76BE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088-4947-4B56-8737-685741CF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7BA-416A-4A46-B209-EB51FD8E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89D-70A2-499C-93AB-795C50EB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229-07B2-40E2-8CDB-0B1BFE6A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A94-A658-4F69-AA7E-4BA481F3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2B2E-3F5E-4DC3-A599-D1F00EED4B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2393-A268-4A54-907F-B1366F9904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25360" y="855360"/>
            <a:ext cx="699624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Sveglie &amp; Bollitori</a:t>
            </a:r>
            <a:endParaRPr b="0" lang="en-US" sz="6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640" y="494136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Universita’ di Camerino | Facolta’ di Architettura | DI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Disegno Industriale Contemporaneo  a.a. 2007/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Docente Giovanni Garroni - Collaboratore Valerio Tamburri - Tutor Adamo Camel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Studenti : Santoro Michele – Giorgi Lucia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Freestyle Script"/>
              </a:rPr>
              <a:t>Bollitori</a:t>
            </a:r>
            <a:endParaRPr b="0" lang="en-US" sz="8000" spc="-1" strike="noStrike">
              <a:solidFill>
                <a:srgbClr val="6666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Tipologia da Fornello</a:t>
            </a:r>
            <a:endParaRPr b="0" lang="en-US" sz="66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4" name="image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403800" cy="260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BOLLITORE KENWOOD SK 620"/>
          <p:cNvPicPr/>
          <p:nvPr/>
        </p:nvPicPr>
        <p:blipFill>
          <a:blip r:embed="rId2"/>
          <a:srcRect l="21353" t="10566" r="22649" b="10502"/>
          <a:stretch/>
        </p:blipFill>
        <p:spPr>
          <a:xfrm>
            <a:off x="5435640" y="2852640"/>
            <a:ext cx="234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Tipologia Elettrica </a:t>
            </a:r>
            <a:endParaRPr b="0" lang="en-US" sz="66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7" name="product_image" descr="Siemens TW 911P2 Porsche"/>
          <p:cNvPicPr/>
          <p:nvPr/>
        </p:nvPicPr>
        <p:blipFill>
          <a:blip r:embed="rId1"/>
          <a:srcRect l="0" t="0" r="0" b="50110"/>
          <a:stretch/>
        </p:blipFill>
        <p:spPr>
          <a:xfrm>
            <a:off x="684360" y="1484280"/>
            <a:ext cx="2300040" cy="2260800"/>
          </a:xfrm>
          <a:prstGeom prst="rect">
            <a:avLst/>
          </a:prstGeom>
          <a:ln w="0">
            <a:noFill/>
          </a:ln>
        </p:spPr>
      </p:pic>
      <p:pic>
        <p:nvPicPr>
          <p:cNvPr id="98" name="product_thumbnail" descr="Bollitore Moulinex BAB-141 Ovea"/>
          <p:cNvPicPr/>
          <p:nvPr/>
        </p:nvPicPr>
        <p:blipFill>
          <a:blip r:embed="rId2"/>
          <a:srcRect l="0" t="0" r="0" b="49641"/>
          <a:stretch/>
        </p:blipFill>
        <p:spPr>
          <a:xfrm>
            <a:off x="6227640" y="4148280"/>
            <a:ext cx="2311560" cy="2295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348000" y="2924280"/>
            <a:ext cx="2592360" cy="22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reestyle Script"/>
              </a:rPr>
              <a:t>caratter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à in litri 1.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tenza in watt 2200W-2400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za f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ltro anticalc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ruttore di sicurez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gnimento automa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sto 24.90 € - 89.90 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KWBLT003"/>
          <p:cNvPicPr/>
          <p:nvPr/>
        </p:nvPicPr>
        <p:blipFill>
          <a:blip r:embed="rId3"/>
          <a:srcRect l="0" t="0" r="0" b="49679"/>
          <a:stretch/>
        </p:blipFill>
        <p:spPr>
          <a:xfrm>
            <a:off x="1042920" y="3933720"/>
            <a:ext cx="1762200" cy="273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hotoB2C"/>
          <p:cNvPicPr/>
          <p:nvPr/>
        </p:nvPicPr>
        <p:blipFill>
          <a:blip r:embed="rId4"/>
          <a:srcRect l="0" t="0" r="0" b="49496"/>
          <a:stretch/>
        </p:blipFill>
        <p:spPr>
          <a:xfrm>
            <a:off x="6156360" y="1628640"/>
            <a:ext cx="2305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Tipologia Elettrica</a:t>
            </a:r>
            <a:endParaRPr b="0" lang="en-US" sz="66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03" name="Picture 2" descr="http://194.185.157.5/area_informativa/img/schede/consumabili/09big_2198.jpg"/>
          <p:cNvPicPr/>
          <p:nvPr/>
        </p:nvPicPr>
        <p:blipFill>
          <a:blip r:embed="rId1"/>
          <a:srcRect l="0" t="0" r="0" b="49131"/>
          <a:stretch/>
        </p:blipFill>
        <p:spPr>
          <a:xfrm>
            <a:off x="826920" y="1628640"/>
            <a:ext cx="229428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mainGalleryPic" descr="Philips  Bollitore  HD4685"/>
          <p:cNvPicPr/>
          <p:nvPr/>
        </p:nvPicPr>
        <p:blipFill>
          <a:blip r:embed="rId2"/>
          <a:srcRect l="0" t="0" r="0" b="52152"/>
          <a:stretch/>
        </p:blipFill>
        <p:spPr>
          <a:xfrm>
            <a:off x="6732720" y="2276640"/>
            <a:ext cx="1573200" cy="187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KWBLT003"/>
          <p:cNvPicPr/>
          <p:nvPr/>
        </p:nvPicPr>
        <p:blipFill>
          <a:blip r:embed="rId3"/>
          <a:srcRect l="0" t="0" r="0" b="49679"/>
          <a:stretch/>
        </p:blipFill>
        <p:spPr>
          <a:xfrm>
            <a:off x="3203640" y="3573360"/>
            <a:ext cx="17622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Tipologia da viaggio</a:t>
            </a:r>
            <a:endParaRPr b="0" lang="en-US" sz="66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303280" cy="2303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132000" y="1700280"/>
            <a:ext cx="56167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Bollitore da viagg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5 litri di capi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za fi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nitore d'acqua illuminato per un uso efficiente anche al bu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imentazione di corrente :    12Vo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Bollitore per uova CuisinArt foto"/>
          <p:cNvPicPr/>
          <p:nvPr/>
        </p:nvPicPr>
        <p:blipFill>
          <a:blip r:embed="rId2"/>
          <a:stretch/>
        </p:blipFill>
        <p:spPr>
          <a:xfrm>
            <a:off x="6838920" y="2781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700360" y="3573360"/>
            <a:ext cx="49687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Bollitore per uova Cuisin Ar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Prezzo: €48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Bollitore per uova in acciaio spazzolato,   ultra compat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24000" y="4724280"/>
            <a:ext cx="1944360" cy="1806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59280" y="5805360"/>
            <a:ext cx="51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Quando l'acqua bolle, "Colibrì" emette un    segnale acustico per evitare che il contenuto traci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4797360"/>
            <a:ext cx="505080" cy="432000"/>
          </a:xfrm>
          <a:prstGeom prst="wedgeEllipseCallout">
            <a:avLst>
              <a:gd name="adj1" fmla="val -43712"/>
              <a:gd name="adj2" fmla="val 5331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1844640"/>
            <a:ext cx="505080" cy="432000"/>
          </a:xfrm>
          <a:prstGeom prst="wedgeEllipseCallout">
            <a:avLst>
              <a:gd name="adj1" fmla="val -43712"/>
              <a:gd name="adj2" fmla="val 5331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6360" y="3213000"/>
            <a:ext cx="504720" cy="432000"/>
          </a:xfrm>
          <a:prstGeom prst="wedgeEllipseCallout">
            <a:avLst>
              <a:gd name="adj1" fmla="val 65092"/>
              <a:gd name="adj2" fmla="val 44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Ipotesi di progetto</a:t>
            </a:r>
            <a:endParaRPr b="0" lang="en-US" sz="6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7082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eestyle Script"/>
              </a:rPr>
              <a:t>1) PROTEZIONE PER QUELLI A FIAM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eestyle Script"/>
              </a:rPr>
              <a:t>2) SISTEMA DI APERTURA PIU’ SICUR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eestyle Script"/>
              </a:rPr>
              <a:t>3) ALTO CONSUMO DI  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8:47:53Z</dcterms:created>
  <dc:creator>u1</dc:creator>
  <dc:description/>
  <dc:language>en-US</dc:language>
  <cp:lastModifiedBy>a</cp:lastModifiedBy>
  <dcterms:modified xsi:type="dcterms:W3CDTF">2007-12-20T17:03:37Z</dcterms:modified>
  <cp:revision>14</cp:revision>
  <dc:subject/>
  <dc:title>Sveglie &amp; Bollitori</dc:title>
</cp:coreProperties>
</file>