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12.pct" ContentType="image/x-pict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E6D-1FC9-4826-B3B7-177670890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8A7-7FBE-400A-AF24-E2D4786D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1CA-EE8C-4B08-925E-0FE03E11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D2D-02DB-4440-A33B-6C8D2CA4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9198-9E67-463A-BC95-10818959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8377-A3C0-444D-87B1-70C29134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5DC4-3ABF-4F7C-8390-EF05F6EA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5DAF-4D30-4A0E-99F4-1589E509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AAC4-8ACC-4D9E-AEAD-2318A1F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3C49-4D03-4C82-B79E-FB2ACA5C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55F0-A023-44F7-BB05-142B555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7F0C-267E-4579-86EA-480D29B6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06FD-B0EA-4EC0-A70A-DFD2B0B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374B-5696-4383-882C-E65A82C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27E5-C0E5-495B-AF51-0C2A87E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6DAE-4E3B-4FE0-A481-BA7A441E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5697-CB78-4235-BF49-18F5B2B2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CA0-55B1-4C10-BA5B-DC7C010E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21A-F48F-41DE-A2CF-9C967B7F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CFD-C673-4814-96A6-37D73689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1F11-7169-4D95-9EC6-7F5CF608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013-0C44-413F-B45B-0CEDE03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E06-D6EC-412F-B507-051F7DA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6D6-B20E-4F66-842D-764543E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00A2-7A7D-426A-8DBD-BA9068C40B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9C3A-BBFD-489C-8F37-638FCB30B0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25360" y="855360"/>
            <a:ext cx="699624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Sveglie &amp; Bollitori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640" y="494136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Universita’ di Camerino | Facolta’ di Architettura | DI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Disegno Industriale Contemporaneo  a.a. 2007/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Docente Giovanni Garroni - Collaboratore Valerio Tamburri - Tutor Adamo Camel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eestyle Script"/>
              </a:rPr>
              <a:t>Studenti : Santoro Michele – Giorgi Lucia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Freestyle Script"/>
              </a:rPr>
              <a:t>Sveglie</a:t>
            </a:r>
            <a:endParaRPr b="0" lang="en-US" sz="8000" spc="-1" strike="noStrike">
              <a:solidFill>
                <a:srgbClr val="66669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eestyle Script"/>
              </a:rPr>
              <a:t>Tipologia</a:t>
            </a:r>
            <a:r>
              <a:rPr b="0" lang="en-US" sz="7200" spc="-1" strike="noStrike">
                <a:solidFill>
                  <a:srgbClr val="666699"/>
                </a:solidFill>
                <a:latin typeface="Freestyle Script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Freestyle Script"/>
              </a:rPr>
              <a:t>Classica</a:t>
            </a:r>
            <a:endParaRPr b="0" lang="en-US" sz="7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94" name="Picture 7" descr="AB5A SVEGLIA BRAUN"/>
          <p:cNvPicPr/>
          <p:nvPr/>
        </p:nvPicPr>
        <p:blipFill>
          <a:blip r:embed="rId1"/>
          <a:stretch/>
        </p:blipFill>
        <p:spPr>
          <a:xfrm>
            <a:off x="684360" y="1628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Q-543-8EF"/>
          <p:cNvPicPr/>
          <p:nvPr/>
        </p:nvPicPr>
        <p:blipFill>
          <a:blip r:embed="rId2"/>
          <a:srcRect l="0" t="15080" r="0" b="12640"/>
          <a:stretch/>
        </p:blipFill>
        <p:spPr>
          <a:xfrm>
            <a:off x="6012000" y="4365720"/>
            <a:ext cx="2665440" cy="19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AB4A SVEGLIA BRAUN"/>
          <p:cNvPicPr/>
          <p:nvPr/>
        </p:nvPicPr>
        <p:blipFill>
          <a:blip r:embed="rId3"/>
          <a:stretch/>
        </p:blipFill>
        <p:spPr>
          <a:xfrm>
            <a:off x="755640" y="400536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00720" y="1557360"/>
            <a:ext cx="3384360" cy="32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reestyle Script"/>
              </a:rPr>
              <a:t>Funzioni</a:t>
            </a:r>
            <a:r>
              <a:rPr b="0" lang="en-US" sz="2400" spc="-1" strike="noStrike">
                <a:solidFill>
                  <a:srgbClr val="000000"/>
                </a:solidFill>
                <a:latin typeface="Freestyle Script"/>
              </a:rPr>
              <a:t> 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llar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n segnale acustico suona giornalmente    all'ora imposta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nooz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Ogni volta che si ferma l'allarme ricomincia a suonare dopo pochi minu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alendari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l calendario aggiorna automaticamente il giorno secondo il me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ormato 12/24 o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’ora può essere visualizzata a 12 o 24 or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asio_tq_142_4ef" descr=" TQ-142-4EF "/>
          <p:cNvPicPr/>
          <p:nvPr/>
        </p:nvPicPr>
        <p:blipFill>
          <a:blip r:embed="rId4"/>
          <a:stretch/>
        </p:blipFill>
        <p:spPr>
          <a:xfrm>
            <a:off x="3635280" y="450864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eestyle Script"/>
              </a:rPr>
              <a:t>Tipologia Classica</a:t>
            </a:r>
            <a:endParaRPr b="0" lang="en-US" sz="72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0" name="Picture 7" descr="_led-clock_12"/>
          <p:cNvPicPr/>
          <p:nvPr/>
        </p:nvPicPr>
        <p:blipFill>
          <a:blip r:embed="rId1"/>
          <a:stretch/>
        </p:blipFill>
        <p:spPr>
          <a:xfrm>
            <a:off x="971640" y="1628640"/>
            <a:ext cx="2857320" cy="214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_barrelwatch"/>
          <p:cNvPicPr/>
          <p:nvPr/>
        </p:nvPicPr>
        <p:blipFill>
          <a:blip r:embed="rId2"/>
          <a:stretch/>
        </p:blipFill>
        <p:spPr>
          <a:xfrm>
            <a:off x="3419640" y="4508640"/>
            <a:ext cx="2857320" cy="1904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4360" y="5013360"/>
            <a:ext cx="273672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eglia per viaggiatori. Per cambiare il fuso orario senza settare ogni volta l’ora basta mettere in nome del paese dove ci si trova a mezzogiorno per visualizzare l’orario corren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651640" y="1700280"/>
            <a:ext cx="24717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Tipologia multifunzione</a:t>
            </a:r>
            <a:r>
              <a:rPr b="0" lang="en-US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5" name="Picture 7" descr="alarm_clock"/>
          <p:cNvPicPr/>
          <p:nvPr/>
        </p:nvPicPr>
        <p:blipFill>
          <a:blip r:embed="rId1"/>
          <a:stretch/>
        </p:blipFill>
        <p:spPr>
          <a:xfrm>
            <a:off x="3924360" y="1557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hilips-AJL308"/>
          <p:cNvPicPr/>
          <p:nvPr/>
        </p:nvPicPr>
        <p:blipFill>
          <a:blip r:embed="rId2"/>
          <a:stretch/>
        </p:blipFill>
        <p:spPr>
          <a:xfrm>
            <a:off x="6156360" y="1557360"/>
            <a:ext cx="2378160" cy="206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_Hitachi_DVL_7TV"/>
          <p:cNvPicPr/>
          <p:nvPr/>
        </p:nvPicPr>
        <p:blipFill>
          <a:blip r:embed="rId3"/>
          <a:stretch/>
        </p:blipFill>
        <p:spPr>
          <a:xfrm>
            <a:off x="611280" y="4724280"/>
            <a:ext cx="2643120" cy="1874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MustekPF-E150"/>
          <p:cNvPicPr/>
          <p:nvPr/>
        </p:nvPicPr>
        <p:blipFill>
          <a:blip r:embed="rId4"/>
          <a:stretch/>
        </p:blipFill>
        <p:spPr>
          <a:xfrm>
            <a:off x="6588000" y="4005360"/>
            <a:ext cx="2214720" cy="2452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92360" y="3429000"/>
            <a:ext cx="273708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 sveglie oggi per attrarre nuovi clienti sul mercato hanno dovuto espandere le loro funzioni divenendo così veri e propri centri multifunzione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reestyle Script"/>
              </a:rPr>
              <a:t>Funzio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sualizzatore di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ore M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ttore D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catore meteorolo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zion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rcRect l="96693" t="0" r="96693" b="152308"/>
          <a:stretch/>
        </p:blipFill>
        <p:spPr>
          <a:xfrm>
            <a:off x="468360" y="1916280"/>
            <a:ext cx="25923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Design e Stravaganza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12" name="image5596" descr="Sonic Bomb"/>
          <p:cNvPicPr/>
          <p:nvPr/>
        </p:nvPicPr>
        <p:blipFill>
          <a:blip r:embed="rId1"/>
          <a:stretch/>
        </p:blipFill>
        <p:spPr>
          <a:xfrm>
            <a:off x="468360" y="1628640"/>
            <a:ext cx="239220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ALARMING RING - foto e immagini"/>
          <p:cNvPicPr/>
          <p:nvPr/>
        </p:nvPicPr>
        <p:blipFill>
          <a:blip r:embed="rId2"/>
          <a:stretch/>
        </p:blipFill>
        <p:spPr>
          <a:xfrm>
            <a:off x="1332000" y="4365720"/>
            <a:ext cx="2120760" cy="150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anello sveglia"/>
          <p:cNvPicPr/>
          <p:nvPr/>
        </p:nvPicPr>
        <p:blipFill>
          <a:blip r:embed="rId3"/>
          <a:stretch/>
        </p:blipFill>
        <p:spPr>
          <a:xfrm>
            <a:off x="324000" y="5589720"/>
            <a:ext cx="2054160" cy="1065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arpet-alarm-clock_1"/>
          <p:cNvPicPr/>
          <p:nvPr/>
        </p:nvPicPr>
        <p:blipFill>
          <a:blip r:embed="rId4"/>
          <a:srcRect l="11180" t="7354" r="10589" b="4363"/>
          <a:stretch/>
        </p:blipFill>
        <p:spPr>
          <a:xfrm>
            <a:off x="5724360" y="4941720"/>
            <a:ext cx="2643480" cy="169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170028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carpet-alarm-clock_2"/>
          <p:cNvPicPr/>
          <p:nvPr/>
        </p:nvPicPr>
        <p:blipFill>
          <a:blip r:embed="rId5"/>
          <a:stretch/>
        </p:blipFill>
        <p:spPr>
          <a:xfrm>
            <a:off x="7236000" y="3860640"/>
            <a:ext cx="1495080" cy="121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08360" y="5373720"/>
            <a:ext cx="432000" cy="503280"/>
          </a:xfrm>
          <a:prstGeom prst="wedgeEllipseCallout">
            <a:avLst>
              <a:gd name="adj1" fmla="val -80884"/>
              <a:gd name="adj2" fmla="val 2949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2205000"/>
            <a:ext cx="432000" cy="503280"/>
          </a:xfrm>
          <a:prstGeom prst="wedgeEllipseCallout">
            <a:avLst>
              <a:gd name="adj1" fmla="val -79412"/>
              <a:gd name="adj2" fmla="val 41481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4005360"/>
            <a:ext cx="431640" cy="503280"/>
          </a:xfrm>
          <a:prstGeom prst="wedgeEllipseCallout">
            <a:avLst>
              <a:gd name="adj1" fmla="val 87500"/>
              <a:gd name="adj2" fmla="val 40851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2133720"/>
            <a:ext cx="324000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llarme sonoro 130 d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Si impostano orari differenti e all’ora x l’anello che viene indossato vib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Per spegnere questa sveglia bisogna sostare su di essa per qualche secon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Design e Stravaganza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23" name="Picture 7" descr="egg_clock"/>
          <p:cNvPicPr/>
          <p:nvPr/>
        </p:nvPicPr>
        <p:blipFill>
          <a:blip r:embed="rId1"/>
          <a:stretch/>
        </p:blipFill>
        <p:spPr>
          <a:xfrm>
            <a:off x="6372360" y="4292640"/>
            <a:ext cx="2261880" cy="2027160"/>
          </a:xfrm>
          <a:prstGeom prst="rect">
            <a:avLst/>
          </a:prstGeom>
          <a:ln w="0">
            <a:noFill/>
          </a:ln>
        </p:spPr>
      </p:pic>
      <p:pic>
        <p:nvPicPr>
          <p:cNvPr id="124" name="image5743" descr="frullatore sveglia"/>
          <p:cNvPicPr/>
          <p:nvPr/>
        </p:nvPicPr>
        <p:blipFill>
          <a:blip r:embed="rId2"/>
          <a:srcRect l="15166" t="3128" r="9090" b="5430"/>
          <a:stretch/>
        </p:blipFill>
        <p:spPr>
          <a:xfrm>
            <a:off x="611280" y="1773360"/>
            <a:ext cx="2109600" cy="244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este_10194744_24440"/>
          <p:cNvPicPr/>
          <p:nvPr/>
        </p:nvPicPr>
        <p:blipFill>
          <a:blip r:embed="rId3"/>
          <a:srcRect l="3760" t="4916" r="2494" b="1952"/>
          <a:stretch/>
        </p:blipFill>
        <p:spPr>
          <a:xfrm>
            <a:off x="1187280" y="5013360"/>
            <a:ext cx="1785960" cy="1357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2349360"/>
            <a:ext cx="503280" cy="4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4797360"/>
            <a:ext cx="503280" cy="432000"/>
          </a:xfrm>
          <a:prstGeom prst="wedgeEllipseCallout">
            <a:avLst>
              <a:gd name="adj1" fmla="val -64828"/>
              <a:gd name="adj2" fmla="val 485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4221000"/>
            <a:ext cx="503280" cy="432000"/>
          </a:xfrm>
          <a:prstGeom prst="wedgeEllipseCallout">
            <a:avLst>
              <a:gd name="adj1" fmla="val 62300"/>
              <a:gd name="adj2" fmla="val 4816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844640"/>
            <a:ext cx="360072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 può connettere al computer tramite cavo usb e all’ora impostata comincia a frull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vestita sia all’interno sia all’esterno di materiali anti urto all’ora x scappa dal comodino!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 spegnere questa sveglia bisogna rimettere tutte le sue uova al post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Design e Stravaganza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31" name="image5505" descr="snooze"/>
          <p:cNvPicPr/>
          <p:nvPr/>
        </p:nvPicPr>
        <p:blipFill>
          <a:blip r:embed="rId1"/>
          <a:stretch/>
        </p:blipFill>
        <p:spPr>
          <a:xfrm>
            <a:off x="539640" y="4745160"/>
            <a:ext cx="251964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24360" y="418464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59280" y="1844640"/>
            <a:ext cx="431640" cy="432000"/>
          </a:xfrm>
          <a:prstGeom prst="wedgeEllipseCallout">
            <a:avLst>
              <a:gd name="adj1" fmla="val -60296"/>
              <a:gd name="adj2" fmla="val 5735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3280" y="4724280"/>
            <a:ext cx="431640" cy="432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4005360"/>
            <a:ext cx="432000" cy="431640"/>
          </a:xfrm>
          <a:prstGeom prst="wedgeEllipseCallout">
            <a:avLst>
              <a:gd name="adj1" fmla="val 63601"/>
              <a:gd name="adj2" fmla="val 5808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51280" y="1844640"/>
            <a:ext cx="4753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)  Proietta l’ora e diffonde luce soffuse grazie a tre L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) Un normale cellulare che capovolto diviene una svegl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) All’ora x la parte superiore comincia a volare per la cam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042920" y="1773360"/>
            <a:ext cx="18399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Ipotesi di progetto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Freestyle Script"/>
              </a:rPr>
              <a:t>1) NUOVI SISTEMI DI ALIMENTAZ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Freestyle Script"/>
              </a:rPr>
              <a:t>2) NUOVI SISTEMI DI ALLA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Freestyle Script"/>
              </a:rPr>
              <a:t>3) STUDIO SUI MATERI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47:53Z</dcterms:created>
  <dc:creator>u1</dc:creator>
  <dc:description/>
  <dc:language>en-US</dc:language>
  <cp:lastModifiedBy>a</cp:lastModifiedBy>
  <dcterms:modified xsi:type="dcterms:W3CDTF">2007-12-20T17:03:56Z</dcterms:modified>
  <cp:revision>14</cp:revision>
  <dc:subject/>
  <dc:title>Sveglie &amp; Bollitori</dc:title>
</cp:coreProperties>
</file>