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3A3E-246F-4DCD-9239-ADC8301DE92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6058-9298-4868-8D4D-4C8B4A3B2E4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E192-1680-4ED5-9FE1-546E0B45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BFC-2C7A-4CE9-8A5D-6F1614DF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E2C4-5A13-47F8-93A7-C6FB7BF9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BA7F-CC68-4BB8-912A-90BD8C2A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B81A-6DF4-45C1-9673-724033AE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A4A-467C-409B-8409-2E16C853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D242-94D7-4E09-9EF3-FC055401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68D-49A3-489F-81AC-4C7AA6F0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0E2-A271-4424-A539-88AE4490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97CA-5F3F-4760-81E8-42638AAA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6CC9-BD6C-48C5-816A-3B8AAB1C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BEB6-A788-48EA-A028-D0F0D905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2A82-3CB9-4FCB-B0AC-CDB3CEF7E05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sellaDiTesto 1"/>
          <p:cNvSpPr/>
          <p:nvPr/>
        </p:nvSpPr>
        <p:spPr>
          <a:xfrm>
            <a:off x="179280" y="558972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Università di Camerino-Facoltà di Architettura-Corso di laurea in disegno industriale e ambien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segno Industriale Contemporaneo  a.a. 2007-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ocente Giovanni Garroni,collaboratore Valerio Tamburri, tutor Adamo Came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Studenti:Boa Tania, Carletti  Federica, d’Avolio Alessandro, Franconi Aless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200112498-001"/>
          <p:cNvPicPr/>
          <p:nvPr/>
        </p:nvPicPr>
        <p:blipFill>
          <a:blip r:embed="rId1"/>
          <a:stretch/>
        </p:blipFill>
        <p:spPr>
          <a:xfrm>
            <a:off x="4211640" y="333360"/>
            <a:ext cx="4538520" cy="4824360"/>
          </a:xfrm>
          <a:prstGeom prst="rect">
            <a:avLst/>
          </a:prstGeom>
          <a:ln w="0">
            <a:noFill/>
          </a:ln>
          <a:effectLst>
            <a:outerShdw dist="252134" dir="2943158" blurRad="0" rotWithShape="0">
              <a:srgbClr val="afa671">
                <a:alpha val="50000"/>
              </a:srgbClr>
            </a:outerShdw>
          </a:effectLst>
        </p:spPr>
      </p:pic>
      <p:pic>
        <p:nvPicPr>
          <p:cNvPr id="50" name="Picture 4" descr="pha103000016"/>
          <p:cNvPicPr/>
          <p:nvPr/>
        </p:nvPicPr>
        <p:blipFill>
          <a:blip r:embed="rId2"/>
          <a:stretch/>
        </p:blipFill>
        <p:spPr>
          <a:xfrm>
            <a:off x="395280" y="333360"/>
            <a:ext cx="3409920" cy="4824360"/>
          </a:xfrm>
          <a:prstGeom prst="rect">
            <a:avLst/>
          </a:prstGeom>
          <a:ln w="0">
            <a:noFill/>
          </a:ln>
          <a:effectLst>
            <a:outerShdw dist="261781" dir="3051616" blurRad="0" rotWithShape="0">
              <a:srgbClr val="afa671">
                <a:alpha val="50000"/>
              </a:srgbClr>
            </a:outerShdw>
          </a:effectLst>
        </p:spPr>
      </p:pic>
      <p:sp>
        <p:nvSpPr>
          <p:cNvPr id="51" name="Rectangle 5"/>
          <p:cNvSpPr/>
          <p:nvPr/>
        </p:nvSpPr>
        <p:spPr>
          <a:xfrm>
            <a:off x="-324000" y="5589720"/>
            <a:ext cx="1087308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1"/>
          <p:cNvSpPr/>
          <p:nvPr/>
        </p:nvSpPr>
        <p:spPr>
          <a:xfrm>
            <a:off x="5148360" y="1413000"/>
            <a:ext cx="280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grattugia è un utensile da cucina in lamiera bucata,su cui si gratta formaggio, pane e simi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Nel mercato sono presenti vari modelli di grattugia ognuno di questi  ha delle peculiarità e si differenziano per: estetica e dimensione,tipo di taglio, tempi d’uso, ripetitività, sforzo , impegno, affaticamento,  sicurezza, comodità, postura e movimento, fordance, rumore e vibrazioni prodot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6083-000660"/>
          <p:cNvPicPr/>
          <p:nvPr/>
        </p:nvPicPr>
        <p:blipFill>
          <a:blip r:embed="rId1"/>
          <a:stretch/>
        </p:blipFill>
        <p:spPr>
          <a:xfrm>
            <a:off x="395280" y="4221000"/>
            <a:ext cx="2014560" cy="302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71094259"/>
          <p:cNvPicPr/>
          <p:nvPr/>
        </p:nvPicPr>
        <p:blipFill>
          <a:blip r:embed="rId2"/>
          <a:stretch/>
        </p:blipFill>
        <p:spPr>
          <a:xfrm>
            <a:off x="2411280" y="-387360"/>
            <a:ext cx="1773360" cy="180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fdc922778"/>
          <p:cNvPicPr/>
          <p:nvPr/>
        </p:nvPicPr>
        <p:blipFill>
          <a:blip r:embed="rId3"/>
          <a:stretch/>
        </p:blipFill>
        <p:spPr>
          <a:xfrm>
            <a:off x="395280" y="1484280"/>
            <a:ext cx="2089080" cy="302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fst044036"/>
          <p:cNvPicPr/>
          <p:nvPr/>
        </p:nvPicPr>
        <p:blipFill>
          <a:blip r:embed="rId4"/>
          <a:stretch/>
        </p:blipFill>
        <p:spPr>
          <a:xfrm>
            <a:off x="2411280" y="5734080"/>
            <a:ext cx="1800360" cy="1425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pha103000019"/>
          <p:cNvPicPr/>
          <p:nvPr/>
        </p:nvPicPr>
        <p:blipFill>
          <a:blip r:embed="rId5"/>
          <a:stretch/>
        </p:blipFill>
        <p:spPr>
          <a:xfrm>
            <a:off x="2411280" y="1125360"/>
            <a:ext cx="1779840" cy="251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57525598"/>
          <p:cNvPicPr/>
          <p:nvPr/>
        </p:nvPicPr>
        <p:blipFill>
          <a:blip r:embed="rId6"/>
          <a:stretch/>
        </p:blipFill>
        <p:spPr>
          <a:xfrm>
            <a:off x="395280" y="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200475946-001"/>
          <p:cNvPicPr/>
          <p:nvPr/>
        </p:nvPicPr>
        <p:blipFill>
          <a:blip r:embed="rId7"/>
          <a:stretch/>
        </p:blipFill>
        <p:spPr>
          <a:xfrm>
            <a:off x="2411280" y="3645000"/>
            <a:ext cx="1800360" cy="2089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1"/>
          <p:cNvSpPr/>
          <p:nvPr/>
        </p:nvSpPr>
        <p:spPr>
          <a:xfrm>
            <a:off x="4140360" y="0"/>
            <a:ext cx="2156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5148360" y="9079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9900"/>
                </a:solidFill>
                <a:latin typeface="Arial"/>
              </a:rPr>
              <a:t>GRATTU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108000" y="0"/>
            <a:ext cx="71280" cy="6858000"/>
          </a:xfrm>
          <a:prstGeom prst="rect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F:\gratta formaggio\53328_PE156033_S2.jpg"/>
          <p:cNvPicPr/>
          <p:nvPr/>
        </p:nvPicPr>
        <p:blipFill>
          <a:blip r:embed="rId1"/>
          <a:stretch/>
        </p:blipFill>
        <p:spPr>
          <a:xfrm>
            <a:off x="684360" y="1557360"/>
            <a:ext cx="2706480" cy="2706840"/>
          </a:xfrm>
          <a:prstGeom prst="rect">
            <a:avLst/>
          </a:prstGeom>
          <a:ln w="0">
            <a:noFill/>
          </a:ln>
        </p:spPr>
      </p:pic>
      <p:sp>
        <p:nvSpPr>
          <p:cNvPr id="64" name="CasellaDiTesto 1"/>
          <p:cNvSpPr/>
          <p:nvPr/>
        </p:nvSpPr>
        <p:spPr>
          <a:xfrm>
            <a:off x="571680" y="21420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 grandi linee possiamo individuare due grandi tipologie di grattugie, suddivisibi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 sottocategor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sellaDiTesto 12"/>
          <p:cNvSpPr/>
          <p:nvPr/>
        </p:nvSpPr>
        <p:spPr>
          <a:xfrm>
            <a:off x="3564000" y="1484280"/>
            <a:ext cx="6357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79646"/>
                </a:solidFill>
                <a:latin typeface="Calibri"/>
              </a:rPr>
              <a:t>Grattugia tradizion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emplicità ed essenzialità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orma curvata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forzo nell’impugnarla e nel grattare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oco ingombrante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stabile nell’appoggio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-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acilità nella pulizia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pargimento formaggio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ezzo:4 fino a 20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asellaDiTesto 13"/>
          <p:cNvSpPr/>
          <p:nvPr/>
        </p:nvSpPr>
        <p:spPr>
          <a:xfrm>
            <a:off x="3564000" y="4508640"/>
            <a:ext cx="64292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79646"/>
                </a:solidFill>
                <a:latin typeface="Calibri"/>
              </a:rPr>
              <a:t>Grattugia con cassetto raccoglitore</a:t>
            </a:r>
            <a:r>
              <a:rPr b="0" lang="it-IT" sz="1800" spc="-1" strike="noStrike">
                <a:solidFill>
                  <a:srgbClr val="f79646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ossibilità conservazione formaggio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iano inclinato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Non usabile sul piatto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montabile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ezzo:da 17 fino a 40 eu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magine 7" descr="Immaginecorretta.jpg"/>
          <p:cNvPicPr/>
          <p:nvPr/>
        </p:nvPicPr>
        <p:blipFill>
          <a:blip r:embed="rId2"/>
          <a:stretch/>
        </p:blipFill>
        <p:spPr>
          <a:xfrm>
            <a:off x="324000" y="4292640"/>
            <a:ext cx="2879640" cy="1812960"/>
          </a:xfrm>
          <a:prstGeom prst="rect">
            <a:avLst/>
          </a:prstGeom>
          <a:ln w="0">
            <a:noFill/>
          </a:ln>
        </p:spPr>
      </p:pic>
      <p:sp>
        <p:nvSpPr>
          <p:cNvPr id="68" name="Connettore 1 16"/>
          <p:cNvSpPr/>
          <p:nvPr/>
        </p:nvSpPr>
        <p:spPr>
          <a:xfrm>
            <a:off x="0" y="1413000"/>
            <a:ext cx="4716360" cy="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sellaDiTesto 29"/>
          <p:cNvSpPr/>
          <p:nvPr/>
        </p:nvSpPr>
        <p:spPr>
          <a:xfrm>
            <a:off x="571680" y="91584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79646"/>
                </a:solidFill>
                <a:latin typeface="Calibri"/>
              </a:rPr>
              <a:t>Manu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108000" y="0"/>
            <a:ext cx="71280" cy="6858000"/>
          </a:xfrm>
          <a:prstGeom prst="rect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mhtml:file://C:\Documents%20and%20Settings\ASUS\Documenti\Immagini\grattugie\Lagostina%20-%20Grattugie.mht!http://www.lagostina.it/NR/rdonlyres/E000C16E-5F11-4A7E-83AC-616EADA3E676/13416/preparazionecucinieri_grattugie_main.jpg"/>
          <p:cNvPicPr/>
          <p:nvPr/>
        </p:nvPicPr>
        <p:blipFill>
          <a:blip r:embed="rId1"/>
          <a:stretch/>
        </p:blipFill>
        <p:spPr>
          <a:xfrm>
            <a:off x="179280" y="333360"/>
            <a:ext cx="3351240" cy="2629080"/>
          </a:xfrm>
          <a:prstGeom prst="rect">
            <a:avLst/>
          </a:prstGeom>
          <a:ln w="0">
            <a:noFill/>
          </a:ln>
        </p:spPr>
      </p:pic>
      <p:sp>
        <p:nvSpPr>
          <p:cNvPr id="72" name="Rettangolo 2"/>
          <p:cNvSpPr/>
          <p:nvPr/>
        </p:nvSpPr>
        <p:spPr>
          <a:xfrm>
            <a:off x="214200" y="285840"/>
            <a:ext cx="164304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html:file://C:\Documents%20and%20Settings\ASUS\Documenti\Immagini\grattugie\Moulin-grater%20Inox%20I%20classici%20-%20Moulinex%20internazionale.mht!http://www.moulinex.it/NR/rdonlyres/DA8F6309-A36F-4BF6-83F3-1B520E2412EE/20616/MoulinGraterA493092.jpg"/>
          <p:cNvPicPr/>
          <p:nvPr/>
        </p:nvPicPr>
        <p:blipFill>
          <a:blip r:embed="rId2"/>
          <a:stretch/>
        </p:blipFill>
        <p:spPr>
          <a:xfrm>
            <a:off x="684360" y="3284640"/>
            <a:ext cx="2633400" cy="2633400"/>
          </a:xfrm>
          <a:prstGeom prst="rect">
            <a:avLst/>
          </a:prstGeom>
          <a:ln w="0">
            <a:noFill/>
          </a:ln>
        </p:spPr>
      </p:pic>
      <p:sp>
        <p:nvSpPr>
          <p:cNvPr id="74" name="CasellaDiTesto 6"/>
          <p:cNvSpPr/>
          <p:nvPr/>
        </p:nvSpPr>
        <p:spPr>
          <a:xfrm>
            <a:off x="3571920" y="876240"/>
            <a:ext cx="54291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79646"/>
                </a:solidFill>
                <a:latin typeface="Calibri"/>
              </a:rPr>
              <a:t>Grattugia piatta o multi fac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iversi tipi di taglio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tabilità nel riporla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ifficoltà nella pulizia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erticalità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ezzo:dai 4 fino a 20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asellaDiTesto 7"/>
          <p:cNvSpPr/>
          <p:nvPr/>
        </p:nvSpPr>
        <p:spPr>
          <a:xfrm>
            <a:off x="3571920" y="3571920"/>
            <a:ext cx="53578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79646"/>
                </a:solidFill>
                <a:latin typeface="Calibri"/>
              </a:rPr>
              <a:t>Grattugia a manovel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modità nell’uso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Necessità di sporzionare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Maggiore sicurezza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ifficoltà nella pulizia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Movimento circolare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ezzo: dai 20 fino a 60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108000" y="0"/>
            <a:ext cx="71280" cy="6858000"/>
          </a:xfrm>
          <a:prstGeom prst="rect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324000" y="765000"/>
            <a:ext cx="165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2951280" cy="140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8"/>
          <p:cNvPicPr/>
          <p:nvPr/>
        </p:nvPicPr>
        <p:blipFill>
          <a:blip r:embed="rId2"/>
          <a:stretch/>
        </p:blipFill>
        <p:spPr>
          <a:xfrm>
            <a:off x="395280" y="3573360"/>
            <a:ext cx="3063960" cy="3063960"/>
          </a:xfrm>
          <a:prstGeom prst="rect">
            <a:avLst/>
          </a:prstGeom>
          <a:ln w="0">
            <a:noFill/>
          </a:ln>
        </p:spPr>
      </p:pic>
      <p:sp>
        <p:nvSpPr>
          <p:cNvPr id="80" name="CasellaDiTesto 3"/>
          <p:cNvSpPr/>
          <p:nvPr/>
        </p:nvSpPr>
        <p:spPr>
          <a:xfrm>
            <a:off x="3564000" y="1125360"/>
            <a:ext cx="5429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79646"/>
                </a:solidFill>
                <a:latin typeface="Calibri"/>
              </a:rPr>
              <a:t>Grattugia elettrica domest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Rumore fastidioso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atteria ricaricabile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ntenuto non visibile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aticità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Necessità di sporzionare il formaggi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spulsione del formaggi grattugiato consentito dalla rotazione del rullo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ezzo:da 40 fino a 70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sellaDiTesto 4"/>
          <p:cNvSpPr/>
          <p:nvPr/>
        </p:nvSpPr>
        <p:spPr>
          <a:xfrm>
            <a:off x="3500280" y="4071960"/>
            <a:ext cx="5000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79646"/>
                </a:solidFill>
                <a:latin typeface="Calibri"/>
              </a:rPr>
              <a:t>Grattugia elettrica profession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Rumoroso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perchio salva freschezza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assetto estraibile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gombrante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isso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teramente smontabile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ezzo:dai 50 fino a 100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asellaDiTesto 6"/>
          <p:cNvSpPr/>
          <p:nvPr/>
        </p:nvSpPr>
        <p:spPr>
          <a:xfrm>
            <a:off x="500040" y="35712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79646"/>
                </a:solidFill>
                <a:latin typeface="Calibri"/>
              </a:rPr>
              <a:t>Elett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onnettore 1 8"/>
          <p:cNvSpPr/>
          <p:nvPr/>
        </p:nvSpPr>
        <p:spPr>
          <a:xfrm>
            <a:off x="0" y="927000"/>
            <a:ext cx="592920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108000" y="0"/>
            <a:ext cx="71280" cy="6858000"/>
          </a:xfrm>
          <a:prstGeom prst="rect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ttangolo 1"/>
          <p:cNvSpPr/>
          <p:nvPr/>
        </p:nvSpPr>
        <p:spPr>
          <a:xfrm>
            <a:off x="826920" y="189000"/>
            <a:ext cx="7858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a nostra proposta di miglioramento di tale prodotto,presuppone la volontà di conservare la 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manualità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dell’azione dell’grattugiare direttamente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 tavola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mostrando l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freschezz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e l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qualità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del formagg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nsideriamo aspetti sui quali interveni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l contatto diretto delle mani con il formag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79646"/>
                </a:solidFill>
                <a:latin typeface="Calibri"/>
              </a:rPr>
              <a:t>fornirlo di una pinza che agganci la forma alla cr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uoriuscita del formaggio dal pia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79646"/>
                </a:solidFill>
                <a:latin typeface="Calibri"/>
              </a:rPr>
              <a:t>intervenire sulla forma della lamiera o sulla direzione delle l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ppoggio del formaggio e della grattugia sul tavolo dopo l’u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79646"/>
                </a:solidFill>
                <a:latin typeface="Calibri"/>
              </a:rPr>
              <a:t>dotarlo di un supporto sul quale disporlo che non lasci residui sul tav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ventualità di ferirsi durante l’u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79646"/>
                </a:solidFill>
                <a:latin typeface="Calibri"/>
              </a:rPr>
              <a:t>applicare un protezione che eviti il contatto delle dita con le l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iminuire lo sforzo necessario  a l’azione del grattugi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79646"/>
                </a:solidFill>
                <a:latin typeface="Calibri"/>
              </a:rPr>
              <a:t>ottimizzare l’impugnatura,la direzione delle lame e il p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acilitare il gesto di grattugiare il formaggio da sedu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79646"/>
                </a:solidFill>
                <a:latin typeface="Calibri"/>
              </a:rPr>
              <a:t>intervenire sulla inclinazione del piano e sulle dimensioni della grattu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nettore 1 5"/>
          <p:cNvSpPr/>
          <p:nvPr/>
        </p:nvSpPr>
        <p:spPr>
          <a:xfrm>
            <a:off x="0" y="6429240"/>
            <a:ext cx="5929200" cy="180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08000" y="0"/>
            <a:ext cx="71280" cy="6858000"/>
          </a:xfrm>
          <a:prstGeom prst="rect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21:01:05Z</dcterms:created>
  <dc:creator>ASUS</dc:creator>
  <dc:description/>
  <dc:language>en-US</dc:language>
  <cp:lastModifiedBy>a</cp:lastModifiedBy>
  <dcterms:modified xsi:type="dcterms:W3CDTF">2007-12-20T16:57:57Z</dcterms:modified>
  <cp:revision>21</cp:revision>
  <dc:subject/>
  <dc:title>Diapositiva 1</dc:title>
</cp:coreProperties>
</file>