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1DB-FDBB-4E5D-922C-1B8F1BC5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AF3-B994-4E76-935F-E94ABCC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EA5-9E14-433C-99B8-0B98792F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E04-2B89-4536-91A5-A6DD6988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482-1007-45AF-B88A-0543CED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951-5D89-434E-BE8A-0053944C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6B8-646B-4469-9E6C-5164B31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8AF-5E1B-4E03-BAE3-90C5626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D1C-8A7A-42B6-88EE-4A87DC72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2B4-C229-49F3-9CDD-E298F36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3C2-E5B1-45E1-858E-6C7DA44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51A-CC93-4E8D-8A25-92F3A75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7D2-EFD8-4F74-A744-A9384AAD325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1"/>
          <p:cNvSpPr/>
          <p:nvPr/>
        </p:nvSpPr>
        <p:spPr>
          <a:xfrm>
            <a:off x="179280" y="55897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Università di Camerino-Facoltà di Architettura-Corso di laurea in disegno industriale e ambi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segno Industriale Contemporaneo  a.a.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ocente Giovanni Garroni,collaboratore Valerio Tamburri, tutor Adamo Came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tudenti:Boa Tania, Carletti  Federica, d’Avolio Alessandro, Franconi Ales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200112498-001"/>
          <p:cNvPicPr/>
          <p:nvPr/>
        </p:nvPicPr>
        <p:blipFill>
          <a:blip r:embed="rId1"/>
          <a:stretch/>
        </p:blipFill>
        <p:spPr>
          <a:xfrm>
            <a:off x="4211640" y="333360"/>
            <a:ext cx="4538520" cy="4824360"/>
          </a:xfrm>
          <a:prstGeom prst="rect">
            <a:avLst/>
          </a:prstGeom>
          <a:ln w="0">
            <a:noFill/>
          </a:ln>
          <a:effectLst>
            <a:outerShdw dist="252134" dir="2943158" blurRad="0" rotWithShape="0">
              <a:srgbClr val="afa671">
                <a:alpha val="50000"/>
              </a:srgbClr>
            </a:outerShdw>
          </a:effectLst>
        </p:spPr>
      </p:pic>
      <p:pic>
        <p:nvPicPr>
          <p:cNvPr id="43" name="Picture 4" descr="pha103000016"/>
          <p:cNvPicPr/>
          <p:nvPr/>
        </p:nvPicPr>
        <p:blipFill>
          <a:blip r:embed="rId2"/>
          <a:stretch/>
        </p:blipFill>
        <p:spPr>
          <a:xfrm>
            <a:off x="395280" y="333360"/>
            <a:ext cx="3409920" cy="4824360"/>
          </a:xfrm>
          <a:prstGeom prst="rect">
            <a:avLst/>
          </a:prstGeom>
          <a:ln w="0">
            <a:noFill/>
          </a:ln>
          <a:effectLst>
            <a:outerShdw dist="261781" dir="3051616" blurRad="0" rotWithShape="0">
              <a:srgbClr val="afa671">
                <a:alpha val="50000"/>
              </a:srgbClr>
            </a:outerShdw>
          </a:effectLst>
        </p:spPr>
      </p:pic>
      <p:sp>
        <p:nvSpPr>
          <p:cNvPr id="44" name="Rectangle 5"/>
          <p:cNvSpPr/>
          <p:nvPr/>
        </p:nvSpPr>
        <p:spPr>
          <a:xfrm>
            <a:off x="-324000" y="5589720"/>
            <a:ext cx="1087308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kd284162sdc"/>
          <p:cNvPicPr/>
          <p:nvPr/>
        </p:nvPicPr>
        <p:blipFill>
          <a:blip r:embed="rId1"/>
          <a:stretch/>
        </p:blipFill>
        <p:spPr>
          <a:xfrm>
            <a:off x="2050920" y="4483080"/>
            <a:ext cx="226224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Line 3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148360" y="9079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Arial"/>
              </a:rPr>
              <a:t>SPAZZO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3226871"/>
          <p:cNvPicPr/>
          <p:nvPr/>
        </p:nvPicPr>
        <p:blipFill>
          <a:blip r:embed="rId2"/>
          <a:stretch/>
        </p:blipFill>
        <p:spPr>
          <a:xfrm>
            <a:off x="179280" y="4389480"/>
            <a:ext cx="1957320" cy="24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00158428-001"/>
          <p:cNvPicPr/>
          <p:nvPr/>
        </p:nvPicPr>
        <p:blipFill>
          <a:blip r:embed="rId3"/>
          <a:stretch/>
        </p:blipFill>
        <p:spPr>
          <a:xfrm>
            <a:off x="395280" y="2349360"/>
            <a:ext cx="3203640" cy="232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AK3996-001"/>
          <p:cNvPicPr/>
          <p:nvPr/>
        </p:nvPicPr>
        <p:blipFill>
          <a:blip r:embed="rId4"/>
          <a:stretch/>
        </p:blipFill>
        <p:spPr>
          <a:xfrm>
            <a:off x="2124000" y="1844640"/>
            <a:ext cx="208764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G0217-001"/>
          <p:cNvPicPr/>
          <p:nvPr/>
        </p:nvPicPr>
        <p:blipFill>
          <a:blip r:embed="rId5"/>
          <a:stretch/>
        </p:blipFill>
        <p:spPr>
          <a:xfrm>
            <a:off x="1908000" y="-7920"/>
            <a:ext cx="2592720" cy="192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phaahk000001"/>
          <p:cNvPicPr/>
          <p:nvPr/>
        </p:nvPicPr>
        <p:blipFill>
          <a:blip r:embed="rId6"/>
          <a:stretch/>
        </p:blipFill>
        <p:spPr>
          <a:xfrm>
            <a:off x="395280" y="0"/>
            <a:ext cx="1728720" cy="2421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4211640" y="0"/>
            <a:ext cx="57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395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148360" y="1484280"/>
            <a:ext cx="24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 spazzolino è uno strumento per la pulizia orale, formato da un manico ed una testina di set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i maggiori produttori troviamo: Oral-B , Colgate, Aquafresh, Mentadent, Dentos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sta gamma di prodotti si differenzia per: estetica, funzione, esigenze, utenza e prefer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2"/>
          <p:cNvSpPr/>
          <p:nvPr/>
        </p:nvSpPr>
        <p:spPr>
          <a:xfrm>
            <a:off x="3564000" y="1413000"/>
            <a:ext cx="53578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Calibri"/>
              </a:rPr>
              <a:t>Spazzolino 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tenza genera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asta scelt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requenti innovazion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ulti funzion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priseto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stine intercambiabili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olimateric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aria forma e materiale di manico e seto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da 1,90 a 2,90 e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"/>
          <p:cNvPicPr/>
          <p:nvPr/>
        </p:nvPicPr>
        <p:blipFill>
          <a:blip r:embed="rId1"/>
          <a:srcRect l="30511" t="28469" r="51738" b="32588"/>
          <a:stretch/>
        </p:blipFill>
        <p:spPr>
          <a:xfrm>
            <a:off x="1187280" y="1628640"/>
            <a:ext cx="1746360" cy="2219400"/>
          </a:xfrm>
          <a:prstGeom prst="rect">
            <a:avLst/>
          </a:prstGeom>
          <a:ln w="0">
            <a:noFill/>
          </a:ln>
        </p:spPr>
      </p:pic>
      <p:sp>
        <p:nvSpPr>
          <p:cNvPr id="59" name="Connettore 1 10"/>
          <p:cNvSpPr/>
          <p:nvPr/>
        </p:nvSpPr>
        <p:spPr>
          <a:xfrm>
            <a:off x="0" y="1197000"/>
            <a:ext cx="435600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11"/>
          <p:cNvSpPr/>
          <p:nvPr/>
        </p:nvSpPr>
        <p:spPr>
          <a:xfrm>
            <a:off x="611280" y="6922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58ed5"/>
                </a:solidFill>
                <a:latin typeface="Calibri"/>
              </a:rPr>
              <a:t>Man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enture"/>
          <p:cNvPicPr/>
          <p:nvPr/>
        </p:nvPicPr>
        <p:blipFill>
          <a:blip r:embed="rId2"/>
          <a:stretch/>
        </p:blipFill>
        <p:spPr>
          <a:xfrm>
            <a:off x="1476360" y="4508640"/>
            <a:ext cx="1143000" cy="194940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2"/>
          <p:cNvSpPr/>
          <p:nvPr/>
        </p:nvSpPr>
        <p:spPr>
          <a:xfrm>
            <a:off x="3564000" y="4724280"/>
            <a:ext cx="63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Calibri"/>
              </a:rPr>
              <a:t>Spazzolino per prote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ppia testina una spessa ed una morbid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giene ed efficaci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da 1,90 a 3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9640" y="333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pazzolini possono essere divisi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sellaDiTesto 4"/>
          <p:cNvSpPr/>
          <p:nvPr/>
        </p:nvSpPr>
        <p:spPr>
          <a:xfrm>
            <a:off x="3564000" y="3645000"/>
            <a:ext cx="628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Calibri"/>
              </a:rPr>
              <a:t>Spazzolino per bamb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unte arrotondat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tole morbid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icatezz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aglio piatt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llo flessibi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circa 2,0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http://www.iodosanissimi.it/immagini/20071291446101SpazzJunior06.jpg"/>
          <p:cNvPicPr/>
          <p:nvPr/>
        </p:nvPicPr>
        <p:blipFill>
          <a:blip r:embed="rId1"/>
          <a:stretch/>
        </p:blipFill>
        <p:spPr>
          <a:xfrm>
            <a:off x="1187280" y="3500280"/>
            <a:ext cx="132732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7" descr=""/>
          <p:cNvPicPr/>
          <p:nvPr/>
        </p:nvPicPr>
        <p:blipFill>
          <a:blip r:embed="rId2"/>
          <a:srcRect l="35752" t="33344" r="49266" b="29749"/>
          <a:stretch/>
        </p:blipFill>
        <p:spPr>
          <a:xfrm>
            <a:off x="468360" y="907920"/>
            <a:ext cx="1465200" cy="186228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8" descr=""/>
          <p:cNvPicPr/>
          <p:nvPr/>
        </p:nvPicPr>
        <p:blipFill>
          <a:blip r:embed="rId3"/>
          <a:srcRect l="35725" t="32017" r="49384" b="29007"/>
          <a:stretch/>
        </p:blipFill>
        <p:spPr>
          <a:xfrm>
            <a:off x="2052720" y="907920"/>
            <a:ext cx="1112760" cy="185760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5"/>
          <p:cNvSpPr/>
          <p:nvPr/>
        </p:nvSpPr>
        <p:spPr>
          <a:xfrm>
            <a:off x="3564000" y="83664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Calibri"/>
              </a:rPr>
              <a:t>Spazzolino ortodontico ed interspa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tole a “v”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cisione al dettagl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da 1,90 a 2,9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sellaDiTesto 1"/>
          <p:cNvSpPr/>
          <p:nvPr/>
        </p:nvSpPr>
        <p:spPr>
          <a:xfrm>
            <a:off x="3571920" y="500040"/>
            <a:ext cx="471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Calibri"/>
              </a:rPr>
              <a:t>Spazzolino da viagg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odo in viagg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Kit con dentifric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giene della testina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nico che diventa cappucci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aticità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iunto ad incastro debol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dai 4,00 ai 6,0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44329" t="26220" r="29241" b="45944"/>
          <a:stretch/>
        </p:blipFill>
        <p:spPr>
          <a:xfrm>
            <a:off x="395280" y="620640"/>
            <a:ext cx="2992320" cy="1760760"/>
          </a:xfrm>
          <a:prstGeom prst="rect">
            <a:avLst/>
          </a:prstGeom>
          <a:ln w="0">
            <a:noFill/>
          </a:ln>
        </p:spPr>
      </p:pic>
      <p:pic>
        <p:nvPicPr>
          <p:cNvPr id="73" name="Immagine 3" descr="mhtml:file://C:\Documents%20and%20Settings\ASUS\Documenti\Immagini\spazzolini\Oral%20b\Oral-B%20Professionalcare%205000.mht!http://www.oralbprofessional.it/it/images/products/power/pow5000/prods5000_large.jpg"/>
          <p:cNvPicPr/>
          <p:nvPr/>
        </p:nvPicPr>
        <p:blipFill>
          <a:blip r:embed="rId2"/>
          <a:stretch/>
        </p:blipFill>
        <p:spPr>
          <a:xfrm>
            <a:off x="1116000" y="3716280"/>
            <a:ext cx="1819440" cy="285768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5"/>
          <p:cNvSpPr/>
          <p:nvPr/>
        </p:nvSpPr>
        <p:spPr>
          <a:xfrm>
            <a:off x="3643200" y="364320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tole ruotanti ed oscillanti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stine intercambiabili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verse modalità d’us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ari tipi di alimentazione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ansione  del tempo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iù velocità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tore ingombra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iss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(-)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ezzo: da 19 a 150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7"/>
          <p:cNvSpPr/>
          <p:nvPr/>
        </p:nvSpPr>
        <p:spPr>
          <a:xfrm>
            <a:off x="428760" y="28576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58ed5"/>
                </a:solidFill>
                <a:latin typeface="Calibri"/>
              </a:rPr>
              <a:t>Elet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9"/>
          <p:cNvSpPr/>
          <p:nvPr/>
        </p:nvSpPr>
        <p:spPr>
          <a:xfrm>
            <a:off x="0" y="3355920"/>
            <a:ext cx="4643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12"/>
          <p:cNvSpPr/>
          <p:nvPr/>
        </p:nvSpPr>
        <p:spPr>
          <a:xfrm>
            <a:off x="3132000" y="1844640"/>
            <a:ext cx="28764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sellaDiTesto 4"/>
          <p:cNvSpPr/>
          <p:nvPr/>
        </p:nvSpPr>
        <p:spPr>
          <a:xfrm>
            <a:off x="500040" y="35712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mercato degli spazzolini è ormai saturo ed i nuovi prodotti si aggiornano solo dal punto di vista for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sempre l’innovazione è efficace, infatti spesso si eccede  con l’ergonomia senza tener conto dei reali bisogni dell’u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deriamo opportuno intervenire su alcune questioni secondo noi non risolte o risolte non esaurien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coprisetole  in commercio è facilmente smarribile e non assicura l’adeguata protezione che vorrem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uno spazzolino con cappuccio incorpo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o spazzolino sciacquato dopo l’uso non è mai adeguatamente pul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accompagnarlo con un accessorio dotato di un igieniz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base del caricabatterie dello spazzolino elettrico è troppo ingombr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introdurre una piccola batteria  a lunga autonomia nel manico dello spazzo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una persona sono necessarie a volte più tipi di spazzolini per pulire più a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dotare lo spazzolino di diversi tipi di testine intercambi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bagno, gli spazzolini sono posizionati in modo disordinato in contenitori simili a bicchieri posti sul piano del lavello o nelle vicinanze dove le setole sono a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elaborare un poggia-spazzolini fisso dove gli spazzolini siano disposti in sequenza e le setole siano cop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11280" y="54936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quanto riguarda in particolare lo spazzolino da viaggio, pensiamo si possa considerare come un oggetto da portare comoda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 bors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usare ogni qualvolta si mangi fuori c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questo riguardo abbiamo preso in considerazione i seguenti aspe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o spazzolino ha un giunto deb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cambiare il sistema di apertura,per esempio con un movimento semirot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’azione  di pulizia del cavo orale lo spazzolino deve essere sempre integrato con il dentifrici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Sintetizzare i due elementi in un unico og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bustina che racchiude il kit non isola completamente il contenuto dall’esterno ed è di ostacolo alla manutenzione della pulizia dello spazzo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Calibri"/>
              </a:rPr>
              <a:t>Ideare un oggetto non bucato che una volta chiuso protegga le set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08000" y="0"/>
            <a:ext cx="71280" cy="68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ttore 1 5"/>
          <p:cNvSpPr/>
          <p:nvPr/>
        </p:nvSpPr>
        <p:spPr>
          <a:xfrm>
            <a:off x="-357120" y="6429240"/>
            <a:ext cx="62863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1:01:05Z</dcterms:created>
  <dc:creator>ASUS</dc:creator>
  <dc:description/>
  <dc:language>en-US</dc:language>
  <cp:lastModifiedBy>a</cp:lastModifiedBy>
  <dcterms:modified xsi:type="dcterms:W3CDTF">2007-12-20T17:04:48Z</dcterms:modified>
  <cp:revision>22</cp:revision>
  <dc:subject/>
  <dc:title>Diapositiva 1</dc:title>
</cp:coreProperties>
</file>