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F8E-D9B4-4A0E-B1B5-90B6FEE5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544-7FE7-4031-988F-4088037E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0D0-C3B2-4D9C-B06C-E23452FA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98F-ADFC-464D-89AA-7F61042F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EDE3-E403-4CE7-BEDC-51365D6A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15D5-B962-4D9D-9864-1D94DC8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2E06-426C-4D1B-925D-1BA905B1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1880-6A03-4436-912B-26BBD1CA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2D3A-A730-48FE-980B-5E65AE3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E150-92A0-483F-AEBF-91AF96AE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76F1-D0CB-42DA-9CA6-6D8206FB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B37-F006-439B-BB54-81C3CB65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C262-079C-4311-BC88-1BEB1917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1D03-E2DE-4324-8055-BE564CE8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E4E0-DE20-4C07-B2BF-B40B112D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F73B-E2C4-44FE-BFAE-3D575B29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50C3-15C3-4022-A421-8BC3BA78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8C498-BF07-4607-976C-9B297FC0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B7CD4-3E05-42AB-9D16-A9A46AD8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DCD05-65DD-405D-B685-686019C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DA176-792F-4667-978D-AD41FBD6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7B3AA-CA4D-4D15-9930-92F84331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638-873C-455C-A96B-4AB2ADF7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4285E-17B7-4934-9B08-1FD090A5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D07F8-BB0A-44CF-87FF-C6A2842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0CD01-396A-4038-8BC6-E7597626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D483D-0DEE-4C54-A660-B094E635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5748B-91C3-41C9-B2D2-A9A4170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0A440-5FE9-4439-BF00-58CA9EFB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C298F-B45A-4FCE-A8AE-B12F6E27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2E0D-91E7-4350-BF34-F97C5CBE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98FA8-BDA8-4938-B0DD-EF373F9E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0AEA-03B9-4627-8C52-D792FA26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BB7-3034-412D-85D0-94DDD9B8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588A8-1160-4158-94AB-FB4EC858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2D17-7D04-41CA-9D97-B7B3A8D8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3E979-C018-4918-9864-F68CD74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6C02-3FD3-4F93-898E-FFC3A98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AACE-3152-46BE-A7DF-91B1F64B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5269A-B013-4679-915C-CF7B414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0F66-83B8-4B93-9D95-B21C543D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F0FD-B6BE-4907-A1DC-52F1814F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9E3A-71D1-4774-A2AA-F006DD0E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9E003-3D66-4B44-B0E6-59FA98D4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EE4-5EA8-4351-B843-96B71C97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E3159-9BC7-4324-A8E9-5C1CDFD6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43325-9F14-4885-873C-63C5DE0A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52710-98BF-4C27-A9FD-42848BC5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05891-6B32-4758-B3C5-FDD87F09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185BF-EB69-433C-B0ED-8DD724FA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044F5-9CE2-4DD3-8E35-363E6313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E81A0-C01B-4113-9E20-569C3411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736FC-91CD-42F5-BF30-68D4704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7DD36-F84B-4EDC-8D30-EDD4BF72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1B6C2-4F94-488B-8B24-29D9A76B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CF4-8CF9-42C4-8FD1-3EA6C6FF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5D6BC-6CF6-4A94-A5E7-7D0AB0DC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529EC-B06B-4D69-AC92-38BAC70B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AAA16-406F-4B27-A905-01EF1D8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14251-51F3-45CF-AD18-3231EFEF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324EB-C1B8-469C-A70C-8DAF0E41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AC620-F963-473C-8719-07EA403D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8C7B6-4D70-441F-A8C5-4379F3E7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940B6-B675-46BE-BA57-79947CC6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FB9D0-FA55-40E0-8E1E-F295A56A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AE090-E927-47C9-B581-D33D31B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52C-7BA7-4D5F-A6D0-3A6C59C4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885B7-A530-4251-BCCE-67074256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79B61-F607-4671-83B4-160EE355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867FE-44E8-4965-B08B-39390834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9E534-5C61-4E01-BF9B-76A48B40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D4191-D1B3-4655-B701-678CB3A1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A9123-BCE4-40E0-989A-AAD2CC31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ED727-7CA2-47EB-832E-8F1F63DA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1EAD3A-1519-4652-9430-5DE24786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71EDA-ABA4-4BBE-B9E6-33B21533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B49E4-30C0-4863-B07F-D08FE0DE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E6A-B4A2-4189-8100-3ED1891F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BC4CA-AD5A-4DBA-82FB-DB07AFD7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2D111-1FDE-4669-A440-9A25C67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1B25A-C97C-4FC3-8712-0E841482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C5D49-6905-4309-8F8B-43425D5F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18CBB-C70B-4126-8244-E74BA6EE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280-F873-43C4-8BB2-27406706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B3D2-7ECD-4CC2-8A6E-2BF70C72847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6A5E-BC2A-4760-AA2D-6384B973B2D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A591-1FEF-4119-AB1C-45BFA507DC1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de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deded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eded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B2E1-F7CE-4BA6-91A0-93CA0C3F0EF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3127-B801-4D1E-963B-EAAFB96C611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39AB-8D8C-4FB6-8B6D-2E177D29AEE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B600-16B9-495C-82C3-ECFE7998A5D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285720" y="1571400"/>
            <a:ext cx="54291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24456"/>
                </a:solidFill>
                <a:latin typeface="Verdana"/>
              </a:rPr>
              <a:t>DISPENSER PER SAPONE DA PIAN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CasellaDiTesto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Camerino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| Facoltà di Architettura | d.i.s.i.a.   (a.a. 2007-200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segno industriale contemporane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ocente: G.Garroni    collaboratore: V.Tamburri    tutor: A. Cameli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Immagine 6" descr="unicam copia.png"/>
          <p:cNvPicPr/>
          <p:nvPr/>
        </p:nvPicPr>
        <p:blipFill>
          <a:blip r:embed="rId1"/>
          <a:stretch/>
        </p:blipFill>
        <p:spPr>
          <a:xfrm>
            <a:off x="7929720" y="428760"/>
            <a:ext cx="982440" cy="1212840"/>
          </a:xfrm>
          <a:prstGeom prst="rect">
            <a:avLst/>
          </a:prstGeom>
          <a:ln w="0">
            <a:noFill/>
          </a:ln>
        </p:spPr>
      </p:pic>
      <p:sp>
        <p:nvSpPr>
          <p:cNvPr id="354" name="Sottotitolo 2"/>
          <p:cNvSpPr/>
          <p:nvPr/>
        </p:nvSpPr>
        <p:spPr>
          <a:xfrm rot="16200000">
            <a:off x="6357960" y="4143240"/>
            <a:ext cx="4286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424456"/>
                </a:solidFill>
                <a:latin typeface="Verdana"/>
              </a:rPr>
              <a:t>SAPONET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5" name="Immagine 8" descr="Soap_Dispenser.jpg"/>
          <p:cNvPicPr/>
          <p:nvPr/>
        </p:nvPicPr>
        <p:blipFill>
          <a:blip r:embed="rId2"/>
          <a:stretch/>
        </p:blipFill>
        <p:spPr>
          <a:xfrm>
            <a:off x="928800" y="1500120"/>
            <a:ext cx="3857400" cy="3857760"/>
          </a:xfrm>
          <a:prstGeom prst="rect">
            <a:avLst/>
          </a:prstGeom>
          <a:ln w="0">
            <a:noFill/>
          </a:ln>
        </p:spPr>
      </p:pic>
      <p:pic>
        <p:nvPicPr>
          <p:cNvPr id="356" name="Immagine 10" descr="F:\università secondo anno\Garroni\saponetta\saponetta (5).jpg"/>
          <p:cNvPicPr/>
          <p:nvPr/>
        </p:nvPicPr>
        <p:blipFill>
          <a:blip r:embed="rId3"/>
          <a:stretch/>
        </p:blipFill>
        <p:spPr>
          <a:xfrm>
            <a:off x="4857840" y="3929040"/>
            <a:ext cx="3476520" cy="2419200"/>
          </a:xfrm>
          <a:prstGeom prst="rect">
            <a:avLst/>
          </a:prstGeom>
          <a:ln w="0">
            <a:noFill/>
          </a:ln>
        </p:spPr>
      </p:pic>
      <p:sp>
        <p:nvSpPr>
          <p:cNvPr id="357" name="CasellaDiTesto 9"/>
          <p:cNvSpPr/>
          <p:nvPr/>
        </p:nvSpPr>
        <p:spPr>
          <a:xfrm>
            <a:off x="2143080" y="564840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Bedini Pao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alpiedi Abe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ilvestrini Stefa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74674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DISPENSER PER SAPONE DA PIANO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59" name="CasellaDiTesto 2"/>
          <p:cNvSpPr/>
          <p:nvPr/>
        </p:nvSpPr>
        <p:spPr>
          <a:xfrm>
            <a:off x="500040" y="1225440"/>
            <a:ext cx="592920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TORI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dispenser per sapone liquido è stato creato dall’ingegnere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rradino D’Ascani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la sua carriera comincia con la progettazione di piccoli marchingegni  utili nella vita di tutti i giorni. Delle sue piccole invenzioni ebbero successo solo alcune, in assoluto e la più importante fu proprio il dispenser che si commercializzò solo vent’anni dopo la sua creazione. Da allora ci furon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numerosi cambiament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soprattutto nell’utilizzo dei materiali, ora la maggior parte sono prodotti plastici, per quanto riguarda invece il funzionamento vero e proprio dell’oggetto non ha subito molte variazion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n commercio possiamo trovare svariati tipi di dispenser da sapone, partendo dai classici per la pulizia delle mani a quelli per la pulizia delle stoviglie fino ad arrivare ai prodotti per la pulizia della casa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bbiamo concentrato la nostra ricerca sul dispenser per la pulizia del corp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0" name="Immagine 3" descr="C:\Documents and Settings\Stefano\Desktop\Università\2°anno\1-DISEGNO INDUSTRIALE_prof. Garroni\dispenser\immagini\Micro2.jpg"/>
          <p:cNvPicPr/>
          <p:nvPr/>
        </p:nvPicPr>
        <p:blipFill>
          <a:blip r:embed="rId1"/>
          <a:stretch/>
        </p:blipFill>
        <p:spPr>
          <a:xfrm>
            <a:off x="7547040" y="493560"/>
            <a:ext cx="981000" cy="4327560"/>
          </a:xfrm>
          <a:prstGeom prst="rect">
            <a:avLst/>
          </a:prstGeom>
          <a:ln w="0">
            <a:noFill/>
          </a:ln>
        </p:spPr>
      </p:pic>
      <p:pic>
        <p:nvPicPr>
          <p:cNvPr id="361" name="Immagine 4" descr="C:\Documents and Settings\Stefano\Desktop\Università\2°anno\1-DISEGNO INDUSTRIALE_prof. Garroni\dispenser\immagini\sapone_liquido.jpg"/>
          <p:cNvPicPr/>
          <p:nvPr/>
        </p:nvPicPr>
        <p:blipFill>
          <a:blip r:embed="rId2"/>
          <a:stretch/>
        </p:blipFill>
        <p:spPr>
          <a:xfrm>
            <a:off x="6572160" y="4572000"/>
            <a:ext cx="1428840" cy="1785960"/>
          </a:xfrm>
          <a:prstGeom prst="rect">
            <a:avLst/>
          </a:prstGeom>
          <a:ln w="0">
            <a:noFill/>
          </a:ln>
        </p:spPr>
      </p:pic>
      <p:pic>
        <p:nvPicPr>
          <p:cNvPr id="362" name="Immagine 6" descr="C:\Documents and Settings\Stefano\Desktop\Università\2°anno\1-DISEGNO INDUSTRIALE_prof. Garroni\dispenser\immagini\cif.jpg"/>
          <p:cNvPicPr/>
          <p:nvPr/>
        </p:nvPicPr>
        <p:blipFill>
          <a:blip r:embed="rId3"/>
          <a:stretch/>
        </p:blipFill>
        <p:spPr>
          <a:xfrm>
            <a:off x="6429240" y="2714760"/>
            <a:ext cx="21369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3900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OME FUNZIONA: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364" name="Immagine 2" descr="Aqua_Soap_Dispenser_with_Various_Floaters_Inside.jpg"/>
          <p:cNvPicPr/>
          <p:nvPr/>
        </p:nvPicPr>
        <p:blipFill>
          <a:blip r:embed="rId1"/>
          <a:srcRect l="24870" t="8842" r="40741" b="0"/>
          <a:stretch/>
        </p:blipFill>
        <p:spPr>
          <a:xfrm>
            <a:off x="3643200" y="857160"/>
            <a:ext cx="2068560" cy="4757760"/>
          </a:xfrm>
          <a:prstGeom prst="rect">
            <a:avLst/>
          </a:prstGeom>
          <a:ln w="0">
            <a:noFill/>
          </a:ln>
        </p:spPr>
      </p:pic>
      <p:pic>
        <p:nvPicPr>
          <p:cNvPr id="365" name="Immagine 4" descr="PTY12,3.stor.jpg"/>
          <p:cNvPicPr/>
          <p:nvPr/>
        </p:nvPicPr>
        <p:blipFill>
          <a:blip r:embed="rId2"/>
          <a:stretch/>
        </p:blipFill>
        <p:spPr>
          <a:xfrm>
            <a:off x="857160" y="1143000"/>
            <a:ext cx="1225800" cy="2786040"/>
          </a:xfrm>
          <a:prstGeom prst="rect">
            <a:avLst/>
          </a:prstGeom>
          <a:ln w="0">
            <a:noFill/>
          </a:ln>
        </p:spPr>
      </p:pic>
      <p:sp>
        <p:nvSpPr>
          <p:cNvPr id="366" name="Connettore 1 6"/>
          <p:cNvSpPr/>
          <p:nvPr/>
        </p:nvSpPr>
        <p:spPr>
          <a:xfrm flipV="1">
            <a:off x="5357160" y="2604960"/>
            <a:ext cx="1428840" cy="1609920"/>
          </a:xfrm>
          <a:prstGeom prst="line">
            <a:avLst/>
          </a:prstGeom>
          <a:ln w="1260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CasellaDiTesto 7"/>
          <p:cNvSpPr/>
          <p:nvPr/>
        </p:nvSpPr>
        <p:spPr>
          <a:xfrm>
            <a:off x="6786720" y="21430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TENITORE PER SAPONE LIQU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Connettore 1 11"/>
          <p:cNvSpPr/>
          <p:nvPr/>
        </p:nvSpPr>
        <p:spPr>
          <a:xfrm flipH="1" flipV="1">
            <a:off x="1785960" y="2214720"/>
            <a:ext cx="2286000" cy="428400"/>
          </a:xfrm>
          <a:prstGeom prst="line">
            <a:avLst/>
          </a:prstGeom>
          <a:ln w="1260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CasellaDiTesto 12"/>
          <p:cNvSpPr/>
          <p:nvPr/>
        </p:nvSpPr>
        <p:spPr>
          <a:xfrm>
            <a:off x="500040" y="400068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OMPA DI EROGA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CasellaDiTesto 19"/>
          <p:cNvSpPr/>
          <p:nvPr/>
        </p:nvSpPr>
        <p:spPr>
          <a:xfrm>
            <a:off x="500040" y="542916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funzionamento del dispenser da piano è molt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emplic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; applicando una leggera pressione sulla pompa si avrà la fuoriuscita del liqui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76160" y="142560"/>
            <a:ext cx="74674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OSTI AL CONSUMATORE: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372" name="Immagine 2" descr="http://www.soscartucce.it/foto/grandi/129/8168a2a1bcf9628da912d857d4317ea9.jpg"/>
          <p:cNvPicPr/>
          <p:nvPr/>
        </p:nvPicPr>
        <p:blipFill>
          <a:blip r:embed="rId1"/>
          <a:stretch/>
        </p:blipFill>
        <p:spPr>
          <a:xfrm>
            <a:off x="4143240" y="714240"/>
            <a:ext cx="2428920" cy="2698920"/>
          </a:xfrm>
          <a:prstGeom prst="rect">
            <a:avLst/>
          </a:prstGeom>
          <a:ln w="0">
            <a:noFill/>
          </a:ln>
        </p:spPr>
      </p:pic>
      <p:sp>
        <p:nvSpPr>
          <p:cNvPr id="373" name="CasellaDiTesto 3"/>
          <p:cNvSpPr/>
          <p:nvPr/>
        </p:nvSpPr>
        <p:spPr>
          <a:xfrm>
            <a:off x="6000840" y="785880"/>
            <a:ext cx="192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GioSty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t: ab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p:350 c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€ 9.8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Immagine 4" descr="Gedy Dosasapone Moka Minnesota (art. ARB1437)"/>
          <p:cNvPicPr/>
          <p:nvPr/>
        </p:nvPicPr>
        <p:blipFill>
          <a:blip r:embed="rId2"/>
          <a:stretch/>
        </p:blipFill>
        <p:spPr>
          <a:xfrm>
            <a:off x="285840" y="3786120"/>
            <a:ext cx="1990800" cy="2571840"/>
          </a:xfrm>
          <a:prstGeom prst="rect">
            <a:avLst/>
          </a:prstGeom>
          <a:ln w="0">
            <a:noFill/>
          </a:ln>
        </p:spPr>
      </p:pic>
      <p:sp>
        <p:nvSpPr>
          <p:cNvPr id="375" name="CasellaDiTesto 5"/>
          <p:cNvSpPr/>
          <p:nvPr/>
        </p:nvSpPr>
        <p:spPr>
          <a:xfrm>
            <a:off x="2286000" y="342900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Ge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t: porcella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p:380 c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€ 27,4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Immagine 6" descr="Gedy Dosasapone Glady (art. ARB1460)"/>
          <p:cNvPicPr/>
          <p:nvPr/>
        </p:nvPicPr>
        <p:blipFill>
          <a:blip r:embed="rId3"/>
          <a:stretch/>
        </p:blipFill>
        <p:spPr>
          <a:xfrm>
            <a:off x="500040" y="642960"/>
            <a:ext cx="1571760" cy="2894040"/>
          </a:xfrm>
          <a:prstGeom prst="rect">
            <a:avLst/>
          </a:prstGeom>
          <a:ln w="0">
            <a:noFill/>
          </a:ln>
        </p:spPr>
      </p:pic>
      <p:sp>
        <p:nvSpPr>
          <p:cNvPr id="377" name="CasellaDiTesto 7"/>
          <p:cNvSpPr/>
          <p:nvPr/>
        </p:nvSpPr>
        <p:spPr>
          <a:xfrm>
            <a:off x="2071800" y="785880"/>
            <a:ext cx="1714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Ge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t: acrilico stampa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p:280 c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€ 7,4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Immagine 9" descr="Marmores_Marmores_Arcobaleno_0845.jpg"/>
          <p:cNvPicPr/>
          <p:nvPr/>
        </p:nvPicPr>
        <p:blipFill>
          <a:blip r:embed="rId4"/>
          <a:stretch/>
        </p:blipFill>
        <p:spPr>
          <a:xfrm>
            <a:off x="4500720" y="3429000"/>
            <a:ext cx="1857240" cy="2681280"/>
          </a:xfrm>
          <a:prstGeom prst="rect">
            <a:avLst/>
          </a:prstGeom>
          <a:ln w="0">
            <a:noFill/>
          </a:ln>
        </p:spPr>
      </p:pic>
      <p:pic>
        <p:nvPicPr>
          <p:cNvPr id="379" name="Immagine 10" descr="Marmores_Marmores_Arcobaleno_0639.jpg"/>
          <p:cNvPicPr/>
          <p:nvPr/>
        </p:nvPicPr>
        <p:blipFill>
          <a:blip r:embed="rId5"/>
          <a:stretch/>
        </p:blipFill>
        <p:spPr>
          <a:xfrm>
            <a:off x="6483240" y="4071960"/>
            <a:ext cx="1660680" cy="2500200"/>
          </a:xfrm>
          <a:prstGeom prst="rect">
            <a:avLst/>
          </a:prstGeom>
          <a:ln w="0">
            <a:noFill/>
          </a:ln>
        </p:spPr>
      </p:pic>
      <p:sp>
        <p:nvSpPr>
          <p:cNvPr id="380" name="CasellaDiTesto 11"/>
          <p:cNvSpPr/>
          <p:nvPr/>
        </p:nvSpPr>
        <p:spPr>
          <a:xfrm>
            <a:off x="6858000" y="3143160"/>
            <a:ext cx="192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Marmo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t: rak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p: n.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€ 63,0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CasellaDiTesto 8"/>
          <p:cNvSpPr/>
          <p:nvPr/>
        </p:nvSpPr>
        <p:spPr>
          <a:xfrm>
            <a:off x="2928960" y="5286240"/>
            <a:ext cx="192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Marmo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t: ceram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p: n.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€ 34,0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PROBLEMATICHE: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3" name="Titolo 1"/>
          <p:cNvSpPr/>
          <p:nvPr/>
        </p:nvSpPr>
        <p:spPr>
          <a:xfrm>
            <a:off x="500040" y="157176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Immagine 8" descr="Arc_shaped_Soap_Dispenser_with_Various_Floaters_Inside.jpg"/>
          <p:cNvPicPr/>
          <p:nvPr/>
        </p:nvPicPr>
        <p:blipFill>
          <a:blip r:embed="rId1"/>
          <a:srcRect l="23544" t="5981" r="42068" b="0"/>
          <a:stretch/>
        </p:blipFill>
        <p:spPr>
          <a:xfrm>
            <a:off x="6715080" y="3429000"/>
            <a:ext cx="1428840" cy="3168720"/>
          </a:xfrm>
          <a:prstGeom prst="rect">
            <a:avLst/>
          </a:prstGeom>
          <a:ln w="0">
            <a:noFill/>
          </a:ln>
        </p:spPr>
      </p:pic>
      <p:pic>
        <p:nvPicPr>
          <p:cNvPr id="385" name="Immagine 9" descr="Marmores_CLASSICO-0994.jpg"/>
          <p:cNvPicPr/>
          <p:nvPr/>
        </p:nvPicPr>
        <p:blipFill>
          <a:blip r:embed="rId2"/>
          <a:stretch/>
        </p:blipFill>
        <p:spPr>
          <a:xfrm>
            <a:off x="3357720" y="3500280"/>
            <a:ext cx="1428480" cy="1535400"/>
          </a:xfrm>
          <a:prstGeom prst="rect">
            <a:avLst/>
          </a:prstGeom>
          <a:ln w="0">
            <a:noFill/>
          </a:ln>
        </p:spPr>
      </p:pic>
      <p:sp>
        <p:nvSpPr>
          <p:cNvPr id="386" name="CasellaDiTesto 10"/>
          <p:cNvSpPr/>
          <p:nvPr/>
        </p:nvSpPr>
        <p:spPr>
          <a:xfrm>
            <a:off x="5000760" y="60721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TABILIT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Connettore 1 12"/>
          <p:cNvSpPr/>
          <p:nvPr/>
        </p:nvSpPr>
        <p:spPr>
          <a:xfrm>
            <a:off x="6572160" y="6272280"/>
            <a:ext cx="428760" cy="156960"/>
          </a:xfrm>
          <a:prstGeom prst="line">
            <a:avLst/>
          </a:prstGeom>
          <a:ln w="1260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Connettore 1 16"/>
          <p:cNvSpPr/>
          <p:nvPr/>
        </p:nvSpPr>
        <p:spPr>
          <a:xfrm>
            <a:off x="4428360" y="4857840"/>
            <a:ext cx="857160" cy="1214280"/>
          </a:xfrm>
          <a:prstGeom prst="line">
            <a:avLst/>
          </a:prstGeom>
          <a:ln w="1260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Immagine 19" descr="PTY12,6.jpg"/>
          <p:cNvPicPr/>
          <p:nvPr/>
        </p:nvPicPr>
        <p:blipFill>
          <a:blip r:embed="rId3"/>
          <a:stretch/>
        </p:blipFill>
        <p:spPr>
          <a:xfrm>
            <a:off x="500040" y="3571920"/>
            <a:ext cx="1339920" cy="2955960"/>
          </a:xfrm>
          <a:prstGeom prst="rect">
            <a:avLst/>
          </a:prstGeom>
          <a:ln w="0">
            <a:noFill/>
          </a:ln>
        </p:spPr>
      </p:pic>
      <p:sp>
        <p:nvSpPr>
          <p:cNvPr id="390" name="CasellaDiTesto 20"/>
          <p:cNvSpPr/>
          <p:nvPr/>
        </p:nvSpPr>
        <p:spPr>
          <a:xfrm>
            <a:off x="2143080" y="55720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NON EFFIC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Connettore 1 22"/>
          <p:cNvSpPr/>
          <p:nvPr/>
        </p:nvSpPr>
        <p:spPr>
          <a:xfrm>
            <a:off x="1428840" y="4786200"/>
            <a:ext cx="714240" cy="986040"/>
          </a:xfrm>
          <a:prstGeom prst="line">
            <a:avLst/>
          </a:prstGeom>
          <a:ln w="1260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CasellaDiTesto 35"/>
          <p:cNvSpPr/>
          <p:nvPr/>
        </p:nvSpPr>
        <p:spPr>
          <a:xfrm>
            <a:off x="428760" y="714240"/>
            <a:ext cx="771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on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oco stabili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oprattutto se il piano su cui poggiano è bagnato, risultano scivolosi e difficili da utilizzar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Quando il sapone sta per finire i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eccanismo di erogazione non svolge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en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la sua funzion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dispenser tradizionali per la pulizia delle mani son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fettosi nella fase di apertur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- Una volta aperto, il tappo non è in grado di richiudere ermeticamente il contenitore provocando la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fuoriuscita del liquid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urante il traspor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Connettore 1 53"/>
          <p:cNvSpPr/>
          <p:nvPr/>
        </p:nvSpPr>
        <p:spPr>
          <a:xfrm>
            <a:off x="1785960" y="3857760"/>
            <a:ext cx="357120" cy="1914480"/>
          </a:xfrm>
          <a:prstGeom prst="line">
            <a:avLst/>
          </a:prstGeom>
          <a:ln w="1260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Connettore 1 56"/>
          <p:cNvSpPr/>
          <p:nvPr/>
        </p:nvSpPr>
        <p:spPr>
          <a:xfrm flipV="1">
            <a:off x="1169280" y="5771880"/>
            <a:ext cx="973080" cy="755640"/>
          </a:xfrm>
          <a:prstGeom prst="line">
            <a:avLst/>
          </a:prstGeom>
          <a:ln w="1260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1438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IPOTESI DI INCREMENTO O DIVERSIFICAZIONE DELLE PRESTAZIONI: 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96" name="CasellaDiTesto 2"/>
          <p:cNvSpPr/>
          <p:nvPr/>
        </p:nvSpPr>
        <p:spPr>
          <a:xfrm>
            <a:off x="1357200" y="1928880"/>
            <a:ext cx="63579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Prendendo in considerazione le problematiche sopraelencate abbiamo pensato di applicare un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ateriale che faccia attrito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ulle superfici bagnate aumentandone la stabilità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ccanismo innovativo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he consenta l’aspirazione totale del sapone contenuto fino all’ultima goccia (un sacchetto leggero di plastica con cui si possa sfruttare il principio del sottovuot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igliorare l’apertura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classici dispenser rendendola intuitiva e funziona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Crear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hiusure ermeti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annullare la perdita del liquido durante il traspo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Immagine 4" descr="430_148.jpg"/>
          <p:cNvPicPr/>
          <p:nvPr/>
        </p:nvPicPr>
        <p:blipFill>
          <a:blip r:embed="rId1"/>
          <a:stretch/>
        </p:blipFill>
        <p:spPr>
          <a:xfrm>
            <a:off x="7215120" y="4000680"/>
            <a:ext cx="1576440" cy="1071360"/>
          </a:xfrm>
          <a:prstGeom prst="rect">
            <a:avLst/>
          </a:prstGeom>
          <a:ln w="0">
            <a:noFill/>
          </a:ln>
        </p:spPr>
      </p:pic>
      <p:pic>
        <p:nvPicPr>
          <p:cNvPr id="398" name="Immagine 8" descr="PTY12,3.stor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14200" y="3071880"/>
            <a:ext cx="1100160" cy="2500200"/>
          </a:xfrm>
          <a:prstGeom prst="rect">
            <a:avLst/>
          </a:prstGeom>
          <a:ln w="0">
            <a:noFill/>
          </a:ln>
        </p:spPr>
      </p:pic>
      <p:pic>
        <p:nvPicPr>
          <p:cNvPr id="399" name="Immagine 9" descr="dropwhite_01_01.jpg"/>
          <p:cNvPicPr/>
          <p:nvPr/>
        </p:nvPicPr>
        <p:blipFill>
          <a:blip r:embed="rId3"/>
          <a:srcRect l="20700" t="3132" r="20228" b="0"/>
          <a:stretch/>
        </p:blipFill>
        <p:spPr>
          <a:xfrm>
            <a:off x="7715160" y="1500120"/>
            <a:ext cx="85752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5:33:38Z</dcterms:created>
  <dc:creator>PЯ</dc:creator>
  <dc:description/>
  <dc:language>en-US</dc:language>
  <cp:lastModifiedBy>a</cp:lastModifiedBy>
  <dcterms:modified xsi:type="dcterms:W3CDTF">2007-12-20T17:00:05Z</dcterms:modified>
  <cp:revision>39</cp:revision>
  <dc:subject/>
  <dc:title>Diapositiva 1</dc:title>
</cp:coreProperties>
</file>